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1.jpeg" ContentType="image/jpeg"/>
  <Override PartName="/ppt/media/image6.gif" ContentType="image/gif"/>
  <Override PartName="/ppt/media/image36.gif" ContentType="image/gif"/>
  <Override PartName="/ppt/media/image20.jpeg" ContentType="image/jpeg"/>
  <Override PartName="/ppt/media/image19.gif" ContentType="image/gif"/>
  <Override PartName="/ppt/media/image18.jpeg" ContentType="image/jpeg"/>
  <Override PartName="/ppt/media/image16.gif" ContentType="image/gif"/>
  <Override PartName="/ppt/media/image15.jpeg" ContentType="image/jpeg"/>
  <Override PartName="/ppt/media/image29.gif" ContentType="image/gif"/>
  <Override PartName="/ppt/media/image14.gif" ContentType="image/gif"/>
  <Override PartName="/ppt/media/image23.gif" ContentType="image/gif"/>
  <Override PartName="/ppt/media/image49.jpeg" ContentType="image/jpeg"/>
  <Override PartName="/ppt/media/image17.jpeg" ContentType="image/jpeg"/>
  <Override PartName="/ppt/media/image12.gif" ContentType="image/gif"/>
  <Override PartName="/ppt/media/image3.png" ContentType="image/png"/>
  <Override PartName="/ppt/media/image40.gif" ContentType="image/gif"/>
  <Override PartName="/ppt/media/image56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media/image54.gif" ContentType="image/gif"/>
  <Override PartName="/ppt/media/image4.gif" ContentType="image/gif"/>
  <Override PartName="/ppt/media/image11.jpeg" ContentType="image/jpeg"/>
  <Override PartName="/ppt/media/image31.gif" ContentType="image/gif"/>
  <Override PartName="/ppt/media/image28.gif" ContentType="image/gif"/>
  <Override PartName="/ppt/media/image42.gif" ContentType="image/gif"/>
  <Override PartName="/ppt/media/image43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9.gif" ContentType="image/gif"/>
  <Override PartName="/ppt/media/image37.jpeg" ContentType="image/jpeg"/>
  <Override PartName="/ppt/media/image10.gif" ContentType="image/gif"/>
  <Override PartName="/ppt/media/image50.gif" ContentType="image/gif"/>
  <Override PartName="/ppt/media/image41.gif" ContentType="image/gif"/>
  <Override PartName="/ppt/media/image46.jpeg" ContentType="image/jpeg"/>
  <Override PartName="/ppt/media/image53.gif" ContentType="image/gif"/>
  <Override PartName="/ppt/media/image55.gif" ContentType="image/gif"/>
  <Override PartName="/ppt/media/image51.gif" ContentType="image/gif"/>
  <Override PartName="/ppt/media/image13.jpeg" ContentType="image/jpeg"/>
  <Override PartName="/ppt/media/image33.gif" ContentType="image/gif"/>
  <Override PartName="/ppt/media/image30.jpeg" ContentType="image/jpeg"/>
  <Override PartName="/ppt/media/image45.gif" ContentType="image/gif"/>
  <Override PartName="/ppt/media/image39.jpeg" ContentType="image/jpeg"/>
  <Override PartName="/ppt/media/image8.jpeg" ContentType="image/jpeg"/>
  <Override PartName="/ppt/media/image25.gif" ContentType="image/gif"/>
  <Override PartName="/ppt/media/image2.gif" ContentType="image/gif"/>
  <Override PartName="/ppt/media/image32.gif" ContentType="image/gif"/>
  <Override PartName="/ppt/media/image7.gif" ContentType="image/gif"/>
  <Override PartName="/ppt/media/image26.jpeg" ContentType="image/jpeg"/>
  <Override PartName="/ppt/media/image5.gif" ContentType="image/gif"/>
  <Override PartName="/ppt/media/image3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0C7-659D-4418-B104-68CEB087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650-42BE-4B31-A42C-0B0824B4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727-FDDE-4EF2-BA85-24E2D11D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FE7-2DEF-4F3F-A711-68288B3B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EB9-8ECC-4692-888A-F5F252A7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336-D562-4C61-8305-AB32C878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E02-937A-477E-8CC0-5698D706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4EF-CA0F-4D50-9622-C839DBC4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B15-1AB1-44E7-959F-6DF3CCDA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785-025B-4E51-AC79-D898F87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731-747F-4A2D-89B1-8BEE61D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1A6-4BE6-4A6F-BB47-D093B25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213-3CAF-46E7-91CB-FA659D3F0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obbies.metroland.ru/gallery/data/media/1853/159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gif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image" Target="../media/image55.gif"/><Relationship Id="rId10" Type="http://schemas.openxmlformats.org/officeDocument/2006/relationships/image" Target="../media/image55.gif"/><Relationship Id="rId11" Type="http://schemas.openxmlformats.org/officeDocument/2006/relationships/image" Target="../media/image55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55.gif"/><Relationship Id="rId16" Type="http://schemas.openxmlformats.org/officeDocument/2006/relationships/image" Target="../media/image55.gif"/><Relationship Id="rId17" Type="http://schemas.openxmlformats.org/officeDocument/2006/relationships/image" Target="../media/image55.gif"/><Relationship Id="rId18" Type="http://schemas.openxmlformats.org/officeDocument/2006/relationships/image" Target="../media/image55.gif"/><Relationship Id="rId19" Type="http://schemas.openxmlformats.org/officeDocument/2006/relationships/image" Target="../media/image55.gi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авила безопасности         во время  зимних    кани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 flipV="1" rot="10800000">
            <a:off x="1185840" y="6020280"/>
            <a:ext cx="663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МОУ-СОШ №47 г.Белгорода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Шуклина Ирина Владимиро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В каждом маленьком ребенке.mp3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00000" y="-1387080"/>
            <a:ext cx="6840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ышел на каток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грать в хоккей разок.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 осторожен, не гоняй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ьком друзей не задевай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88360" y="292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5" descr="http://s47.radikal.ru/i116/0812/08/52fef66ac43e.jpg"/>
          <p:cNvPicPr/>
          <p:nvPr/>
        </p:nvPicPr>
        <p:blipFill>
          <a:blip r:embed="rId1"/>
          <a:stretch/>
        </p:blipFill>
        <p:spPr>
          <a:xfrm>
            <a:off x="2801880" y="3645000"/>
            <a:ext cx="3065400" cy="306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59927e0ab9e88942ee66aae34ae09cb7"/>
          <p:cNvPicPr/>
          <p:nvPr/>
        </p:nvPicPr>
        <p:blipFill>
          <a:blip r:embed="rId2"/>
          <a:stretch/>
        </p:blipFill>
        <p:spPr>
          <a:xfrm>
            <a:off x="6659640" y="5084640"/>
            <a:ext cx="2297160" cy="148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49fcb8fc5b049d43c6f81b1a20b8105a"/>
          <p:cNvPicPr/>
          <p:nvPr/>
        </p:nvPicPr>
        <p:blipFill>
          <a:blip r:embed="rId3"/>
          <a:stretch/>
        </p:blipFill>
        <p:spPr>
          <a:xfrm>
            <a:off x="254160" y="4292640"/>
            <a:ext cx="159048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58a95fef3d34e8ab696096002984c37c"/>
          <p:cNvPicPr/>
          <p:nvPr/>
        </p:nvPicPr>
        <p:blipFill>
          <a:blip r:embed="rId4"/>
          <a:stretch/>
        </p:blipFill>
        <p:spPr>
          <a:xfrm>
            <a:off x="7451640" y="692280"/>
            <a:ext cx="1143000" cy="5713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C 0.02482 -0.00417 0.04149 -0.00255 0.06475 0.0037 C 0.06875 0.01157 0.07569 0.01366 0.08177 0.01875 C 0.08559 0.02616 0.09045 0.03194 0.09444 0.03935 C 0.09392 0.0412 0.09271 0.04305 0.09288 0.04491 C 0.09323 0.04722 0.09496 0.04861 0.09583 0.05069 C 0.09739 0.05486 0.09843 0.05949 0.1 0.06366 C 0.10052 0.06991 0.10139 0.07639 0.10139 0.08264 C 0.10139 0.09005 0.10069 0.09768 0.1 0.10509 C 0.09774 0.12917 0.07673 0.12454 0.06337 0.12569 C 0.05173 0.12755 0.04913 0.13125 0.03663 0.1331 C 0.02587 0.13657 0.02066 0.14005 0.01128 0.14815 C 0.0085 0.15069 0.00277 0.15555 0.00277 0.15579 C -0.00035 0.1618 -0.00243 0.16481 -0.00712 0.16875 C -0.00938 0.17801 -0.00903 0.1875 -0.01129 0.19676 C -0.01233 0.20555 -0.01354 0.21643 -0.01545 0.225 C -0.01684 0.23125 -0.01962 0.2375 -0.02118 0.24375 C -0.02344 0.2625 -0.02795 0.28981 -0.01407 0.30208 C -0.0125 0.3081 -0.01216 0.31528 -0.0099 0.32083 C -0.00747 0.32685 -0.00295 0.33125 -0.00139 0.33773 C 0.00052 0.34514 0.00139 0.34838 0.00712 0.35093 C 0.02083 0.36921 0.00312 0.34722 0.01545 0.35833 C 0.01718 0.35995 0.01788 0.36296 0.01979 0.36412 C 0.02187 0.36551 0.02448 0.36505 0.02673 0.36597 C 0.02968 0.3669 0.03229 0.36875 0.03524 0.36944 C 0.03715 0.37037 0.03889 0.37083 0.0408 0.3713 C 0.04392 0.38356 0.04566 0.39398 0.0408 0.40694 C 0.03941 0.41042 0.03524 0.41435 0.03524 0.41829 E">
                                      <p:cBhvr>
                                        <p:cTn id="24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403280" y="26028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без друга на каток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ходи один кататься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 не стукнуться об лёд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о за руки держаться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8" descr="193941759"/>
          <p:cNvPicPr/>
          <p:nvPr/>
        </p:nvPicPr>
        <p:blipFill>
          <a:blip r:embed="rId1"/>
          <a:stretch/>
        </p:blipFill>
        <p:spPr>
          <a:xfrm>
            <a:off x="3708360" y="3716280"/>
            <a:ext cx="5076720" cy="286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4d0ae927a3abdfc6c966ad5fb5842b74"/>
          <p:cNvPicPr/>
          <p:nvPr/>
        </p:nvPicPr>
        <p:blipFill>
          <a:blip r:embed="rId2"/>
          <a:stretch/>
        </p:blipFill>
        <p:spPr>
          <a:xfrm>
            <a:off x="7667640" y="4046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48"/>
          <p:cNvPicPr/>
          <p:nvPr/>
        </p:nvPicPr>
        <p:blipFill>
          <a:blip r:embed="rId3"/>
          <a:stretch/>
        </p:blipFill>
        <p:spPr>
          <a:xfrm>
            <a:off x="611280" y="3645000"/>
            <a:ext cx="1976400" cy="2160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9852 L 0.04253 0.75948 E">
                                      <p:cBhvr>
                                        <p:cTn id="26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85840" y="0"/>
            <a:ext cx="885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щеры в снегу рыли ребята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ли они в игру «медвежата»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ий тоннель прорыли они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ыход оттуда найти не смогли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5" descr="untitle90"/>
          <p:cNvPicPr/>
          <p:nvPr/>
        </p:nvPicPr>
        <p:blipFill>
          <a:blip r:embed="rId1"/>
          <a:stretch/>
        </p:blipFill>
        <p:spPr>
          <a:xfrm>
            <a:off x="3132000" y="2924280"/>
            <a:ext cx="5148360" cy="36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8387439bae733029d081bb2a53ef4a82"/>
          <p:cNvPicPr/>
          <p:nvPr/>
        </p:nvPicPr>
        <p:blipFill>
          <a:blip r:embed="rId2"/>
          <a:stretch/>
        </p:blipFill>
        <p:spPr>
          <a:xfrm>
            <a:off x="-1895400" y="4869000"/>
            <a:ext cx="1895400" cy="1638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8.60315E-007 L 0.37014 -8.60315E-007 E">
                                      <p:cBhvr>
                                        <p:cTn id="273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1258159790_517817587_509060"/>
          <p:cNvPicPr/>
          <p:nvPr/>
        </p:nvPicPr>
        <p:blipFill>
          <a:blip r:embed="rId2"/>
          <a:stretch/>
        </p:blipFill>
        <p:spPr>
          <a:xfrm>
            <a:off x="7093080" y="476280"/>
            <a:ext cx="1815840" cy="2421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357120" y="36756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за окном метель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Ты ложись скорей в постель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И из дома не ходи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огоду пережди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5" descr="newy41"/>
          <p:cNvPicPr/>
          <p:nvPr/>
        </p:nvPicPr>
        <p:blipFill>
          <a:blip r:embed="rId3"/>
          <a:stretch/>
        </p:blipFill>
        <p:spPr>
          <a:xfrm>
            <a:off x="539640" y="4653000"/>
            <a:ext cx="2162160" cy="193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2ec3c2e82265474d2531fe8290be5514"/>
          <p:cNvPicPr/>
          <p:nvPr/>
        </p:nvPicPr>
        <p:blipFill>
          <a:blip r:embed="rId4"/>
          <a:stretch/>
        </p:blipFill>
        <p:spPr>
          <a:xfrm>
            <a:off x="6588000" y="260280"/>
            <a:ext cx="1114560" cy="1009800"/>
          </a:xfrm>
          <a:prstGeom prst="rect">
            <a:avLst/>
          </a:prstGeom>
          <a:ln w="0">
            <a:noFill/>
          </a:ln>
        </p:spPr>
      </p:pic>
      <p:pic>
        <p:nvPicPr>
          <p:cNvPr id="113" name="04 - Симфония № 5 до минор. Allegro con brio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-main-pic" descr="Картинка 1169 из 24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500280"/>
            <a:ext cx="2286000" cy="3095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142920" y="0"/>
            <a:ext cx="8358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ег  летает и кружится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д ноги к нам ложится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от его ты не бери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весь грязный изнутри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язь – вредна, она опасна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й микробы – это ясно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schaste"/>
          <p:cNvPicPr/>
          <p:nvPr/>
        </p:nvPicPr>
        <p:blipFill>
          <a:blip r:embed="rId3"/>
          <a:stretch/>
        </p:blipFill>
        <p:spPr>
          <a:xfrm>
            <a:off x="6877080" y="260280"/>
            <a:ext cx="1847880" cy="17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b9530dbf3139944f2672bbbdc1db78c"/>
          <p:cNvPicPr/>
          <p:nvPr/>
        </p:nvPicPr>
        <p:blipFill>
          <a:blip r:embed="rId4"/>
          <a:stretch/>
        </p:blipFill>
        <p:spPr>
          <a:xfrm>
            <a:off x="3400560" y="4221000"/>
            <a:ext cx="1643040" cy="201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00000001_801"/>
          <p:cNvPicPr/>
          <p:nvPr/>
        </p:nvPicPr>
        <p:blipFill>
          <a:blip r:embed="rId5"/>
          <a:stretch/>
        </p:blipFill>
        <p:spPr>
          <a:xfrm>
            <a:off x="5364000" y="357336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4176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оди зимой по льду: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жешь ты попасть в беду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лунку или в полынью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загубишь жизнь свою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effe52b2227b1454da753c4755634cb6"/>
          <p:cNvPicPr/>
          <p:nvPr/>
        </p:nvPicPr>
        <p:blipFill>
          <a:blip r:embed="rId1"/>
          <a:stretch/>
        </p:blipFill>
        <p:spPr>
          <a:xfrm>
            <a:off x="4284720" y="1052640"/>
            <a:ext cx="4859280" cy="4749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357120" y="357120"/>
            <a:ext cx="750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мороз начнёт кусаться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ь морж идёт тогда купаться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удешь закаляться-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бе мороза не бояться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5" descr="kostya-piter-576x768"/>
          <p:cNvPicPr/>
          <p:nvPr/>
        </p:nvPicPr>
        <p:blipFill>
          <a:blip r:embed="rId1"/>
          <a:stretch/>
        </p:blipFill>
        <p:spPr>
          <a:xfrm>
            <a:off x="5796000" y="278136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orgy09_2"/>
          <p:cNvPicPr/>
          <p:nvPr/>
        </p:nvPicPr>
        <p:blipFill>
          <a:blip r:embed="rId2"/>
          <a:stretch/>
        </p:blipFill>
        <p:spPr>
          <a:xfrm>
            <a:off x="900000" y="2824200"/>
            <a:ext cx="2824200" cy="371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45366990c43291a3d46ecee707e2524"/>
          <p:cNvPicPr/>
          <p:nvPr/>
        </p:nvPicPr>
        <p:blipFill>
          <a:blip r:embed="rId3"/>
          <a:stretch/>
        </p:blipFill>
        <p:spPr>
          <a:xfrm>
            <a:off x="7308720" y="404640"/>
            <a:ext cx="159876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39"/>
          <p:cNvPicPr/>
          <p:nvPr/>
        </p:nvPicPr>
        <p:blipFill>
          <a:blip r:embed="rId4"/>
          <a:stretch/>
        </p:blipFill>
        <p:spPr>
          <a:xfrm>
            <a:off x="4211640" y="4149720"/>
            <a:ext cx="126684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1042920" y="189000"/>
            <a:ext cx="7958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ила эти помни всегда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 не случилась с тобою беда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мни, жизнь всего одна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ьше всех она важна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6" descr="елка"/>
          <p:cNvPicPr/>
          <p:nvPr/>
        </p:nvPicPr>
        <p:blipFill>
          <a:blip r:embed="rId2"/>
          <a:stretch/>
        </p:blipFill>
        <p:spPr>
          <a:xfrm>
            <a:off x="250920" y="4049640"/>
            <a:ext cx="2097000" cy="280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86ae4b4ba5804030960ec85e4b24d13"/>
          <p:cNvPicPr/>
          <p:nvPr/>
        </p:nvPicPr>
        <p:blipFill>
          <a:blip r:embed="rId3"/>
          <a:stretch/>
        </p:blipFill>
        <p:spPr>
          <a:xfrm>
            <a:off x="6659640" y="4581360"/>
            <a:ext cx="2073240" cy="208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star7"/>
          <p:cNvPicPr/>
          <p:nvPr/>
        </p:nvPicPr>
        <p:blipFill>
          <a:blip r:embed="rId4"/>
          <a:stretch/>
        </p:blipFill>
        <p:spPr>
          <a:xfrm>
            <a:off x="539640" y="23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star7"/>
          <p:cNvPicPr/>
          <p:nvPr/>
        </p:nvPicPr>
        <p:blipFill>
          <a:blip r:embed="rId5"/>
          <a:stretch/>
        </p:blipFill>
        <p:spPr>
          <a:xfrm>
            <a:off x="7740720" y="357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star7"/>
          <p:cNvPicPr/>
          <p:nvPr/>
        </p:nvPicPr>
        <p:blipFill>
          <a:blip r:embed="rId6"/>
          <a:stretch/>
        </p:blipFill>
        <p:spPr>
          <a:xfrm>
            <a:off x="468360" y="11253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tar7"/>
          <p:cNvPicPr/>
          <p:nvPr/>
        </p:nvPicPr>
        <p:blipFill>
          <a:blip r:embed="rId7"/>
          <a:stretch/>
        </p:blipFill>
        <p:spPr>
          <a:xfrm>
            <a:off x="395280" y="465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star7"/>
          <p:cNvPicPr/>
          <p:nvPr/>
        </p:nvPicPr>
        <p:blipFill>
          <a:blip r:embed="rId8"/>
          <a:stretch/>
        </p:blipFill>
        <p:spPr>
          <a:xfrm>
            <a:off x="611280" y="364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star7"/>
          <p:cNvPicPr/>
          <p:nvPr/>
        </p:nvPicPr>
        <p:blipFill>
          <a:blip r:embed="rId9"/>
          <a:stretch/>
        </p:blipFill>
        <p:spPr>
          <a:xfrm>
            <a:off x="5003640" y="6165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star7"/>
          <p:cNvPicPr/>
          <p:nvPr/>
        </p:nvPicPr>
        <p:blipFill>
          <a:blip r:embed="rId10"/>
          <a:stretch/>
        </p:blipFill>
        <p:spPr>
          <a:xfrm>
            <a:off x="298764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star7"/>
          <p:cNvPicPr/>
          <p:nvPr/>
        </p:nvPicPr>
        <p:blipFill>
          <a:blip r:embed="rId11"/>
          <a:stretch/>
        </p:blipFill>
        <p:spPr>
          <a:xfrm>
            <a:off x="8459640" y="270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star7"/>
          <p:cNvPicPr/>
          <p:nvPr/>
        </p:nvPicPr>
        <p:blipFill>
          <a:blip r:embed="rId12"/>
          <a:stretch/>
        </p:blipFill>
        <p:spPr>
          <a:xfrm>
            <a:off x="8244000" y="191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star7"/>
          <p:cNvPicPr/>
          <p:nvPr/>
        </p:nvPicPr>
        <p:blipFill>
          <a:blip r:embed="rId13"/>
          <a:stretch/>
        </p:blipFill>
        <p:spPr>
          <a:xfrm>
            <a:off x="5796000" y="407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star7"/>
          <p:cNvPicPr/>
          <p:nvPr/>
        </p:nvPicPr>
        <p:blipFill>
          <a:blip r:embed="rId14"/>
          <a:stretch/>
        </p:blipFill>
        <p:spPr>
          <a:xfrm>
            <a:off x="2195640" y="4437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star7"/>
          <p:cNvPicPr/>
          <p:nvPr/>
        </p:nvPicPr>
        <p:blipFill>
          <a:blip r:embed="rId15"/>
          <a:stretch/>
        </p:blipFill>
        <p:spPr>
          <a:xfrm>
            <a:off x="7308720" y="155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star7"/>
          <p:cNvPicPr/>
          <p:nvPr/>
        </p:nvPicPr>
        <p:blipFill>
          <a:blip r:embed="rId16"/>
          <a:stretch/>
        </p:blipFill>
        <p:spPr>
          <a:xfrm>
            <a:off x="810108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star7"/>
          <p:cNvPicPr/>
          <p:nvPr/>
        </p:nvPicPr>
        <p:blipFill>
          <a:blip r:embed="rId17"/>
          <a:stretch/>
        </p:blipFill>
        <p:spPr>
          <a:xfrm>
            <a:off x="8244000" y="40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7" descr="star7"/>
          <p:cNvPicPr/>
          <p:nvPr/>
        </p:nvPicPr>
        <p:blipFill>
          <a:blip r:embed="rId18"/>
          <a:stretch/>
        </p:blipFill>
        <p:spPr>
          <a:xfrm>
            <a:off x="4140360" y="5516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8" descr="star7"/>
          <p:cNvPicPr/>
          <p:nvPr/>
        </p:nvPicPr>
        <p:blipFill>
          <a:blip r:embed="rId19"/>
          <a:stretch/>
        </p:blipFill>
        <p:spPr>
          <a:xfrm>
            <a:off x="6084720" y="616572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езентации использованы стих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Звягинцевой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А.Кротова ,З.Ф.Богапо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материалы взяты из Интернет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формление презентации-Шуклина И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179280" y="189000"/>
            <a:ext cx="8642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ра! Каникулы! Каникулы у нас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 утра до ночи можно много, много дне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ататься с горки и гонять на льду в хоккей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ы за пол года изучили много тем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троенье клеток и решенье теорем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званья рек по географии прошл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 вот каникулы веселые пришли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ы на каникулах встречаем Новый год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 со Снегурочкою кружим хоровод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иходит сказка и приходит Дед Мороз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 возле ёлочки смеёмся мы до слез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ра каникулы! Каникулы ура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" name="Picture 9" descr="5dd8b6520963ef62f768b6a0099f7081"/>
          <p:cNvPicPr/>
          <p:nvPr/>
        </p:nvPicPr>
        <p:blipFill>
          <a:blip r:embed="rId1"/>
          <a:stretch/>
        </p:blipFill>
        <p:spPr>
          <a:xfrm>
            <a:off x="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5dd8b6520963ef62f768b6a0099f7081"/>
          <p:cNvPicPr/>
          <p:nvPr/>
        </p:nvPicPr>
        <p:blipFill>
          <a:blip r:embed="rId2"/>
          <a:stretch/>
        </p:blipFill>
        <p:spPr>
          <a:xfrm>
            <a:off x="730872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5dd8b6520963ef62f768b6a0099f7081"/>
          <p:cNvPicPr/>
          <p:nvPr/>
        </p:nvPicPr>
        <p:blipFill>
          <a:blip r:embed="rId3"/>
          <a:stretch/>
        </p:blipFill>
        <p:spPr>
          <a:xfrm>
            <a:off x="817236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5dd8b6520963ef62f768b6a0099f7081"/>
          <p:cNvPicPr/>
          <p:nvPr/>
        </p:nvPicPr>
        <p:blipFill>
          <a:blip r:embed="rId4"/>
          <a:stretch/>
        </p:blipFill>
        <p:spPr>
          <a:xfrm>
            <a:off x="558000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5dd8b6520963ef62f768b6a0099f7081"/>
          <p:cNvPicPr/>
          <p:nvPr/>
        </p:nvPicPr>
        <p:blipFill>
          <a:blip r:embed="rId5"/>
          <a:stretch/>
        </p:blipFill>
        <p:spPr>
          <a:xfrm>
            <a:off x="644364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5dd8b6520963ef62f768b6a0099f7081"/>
          <p:cNvPicPr/>
          <p:nvPr/>
        </p:nvPicPr>
        <p:blipFill>
          <a:blip r:embed="rId6"/>
          <a:stretch/>
        </p:blipFill>
        <p:spPr>
          <a:xfrm>
            <a:off x="3780000" y="6350040"/>
            <a:ext cx="971280" cy="50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dd8b6520963ef62f768b6a0099f7081"/>
          <p:cNvPicPr/>
          <p:nvPr/>
        </p:nvPicPr>
        <p:blipFill>
          <a:blip r:embed="rId7"/>
          <a:stretch/>
        </p:blipFill>
        <p:spPr>
          <a:xfrm>
            <a:off x="464328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5dd8b6520963ef62f768b6a0099f7081"/>
          <p:cNvPicPr/>
          <p:nvPr/>
        </p:nvPicPr>
        <p:blipFill>
          <a:blip r:embed="rId8"/>
          <a:stretch/>
        </p:blipFill>
        <p:spPr>
          <a:xfrm>
            <a:off x="190800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5dd8b6520963ef62f768b6a0099f7081"/>
          <p:cNvPicPr/>
          <p:nvPr/>
        </p:nvPicPr>
        <p:blipFill>
          <a:blip r:embed="rId9"/>
          <a:stretch/>
        </p:blipFill>
        <p:spPr>
          <a:xfrm>
            <a:off x="284328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5dd8b6520963ef62f768b6a0099f7081"/>
          <p:cNvPicPr/>
          <p:nvPr/>
        </p:nvPicPr>
        <p:blipFill>
          <a:blip r:embed="rId10"/>
          <a:stretch/>
        </p:blipFill>
        <p:spPr>
          <a:xfrm>
            <a:off x="971640" y="6350040"/>
            <a:ext cx="971640" cy="50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d0c9aecd4365d6bf64432cd0a0328083"/>
          <p:cNvPicPr/>
          <p:nvPr/>
        </p:nvPicPr>
        <p:blipFill>
          <a:blip r:embed="rId11"/>
          <a:stretch/>
        </p:blipFill>
        <p:spPr>
          <a:xfrm>
            <a:off x="8039160" y="4724280"/>
            <a:ext cx="1104840" cy="160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2ddc887fdf59507d5f4ceef720a00df2"/>
          <p:cNvPicPr/>
          <p:nvPr/>
        </p:nvPicPr>
        <p:blipFill>
          <a:blip r:embed="rId12"/>
          <a:stretch/>
        </p:blipFill>
        <p:spPr>
          <a:xfrm>
            <a:off x="7812000" y="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snow"/>
          <p:cNvPicPr/>
          <p:nvPr/>
        </p:nvPicPr>
        <p:blipFill>
          <a:blip r:embed="rId13"/>
          <a:stretch/>
        </p:blipFill>
        <p:spPr>
          <a:xfrm>
            <a:off x="8388360" y="1916280"/>
            <a:ext cx="28584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snow"/>
          <p:cNvPicPr/>
          <p:nvPr/>
        </p:nvPicPr>
        <p:blipFill>
          <a:blip r:embed="rId14"/>
          <a:stretch/>
        </p:blipFill>
        <p:spPr>
          <a:xfrm>
            <a:off x="8388360" y="3141720"/>
            <a:ext cx="2858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Vanessa Mae - Contradanza.mp3" descr=""/>
          <p:cNvPicPr/>
          <p:nvPr/>
        </p:nvPicPr>
        <p:blipFill>
          <a:blip r:embed="rId15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72222E-006 -2.57169E-006 L 0.00782 -0.90217 E">
                                      <p:cBhvr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0.0177 -0.9031 E">
                                      <p:cBhvr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4301 L 0.00209 -0.9031 E">
                                      <p:cBhvr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6383 L 0.00208 -0.9031 E">
                                      <p:cBhvr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-0.01389 -0.9031 E">
                                      <p:cBhvr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471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шла зима. Трещат морозы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щиплет уши ,щёки, нос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денься лучше потеплее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тоб очень сильно не замёрз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780d316d09451072870ca9d7eeb62060"/>
          <p:cNvPicPr/>
          <p:nvPr/>
        </p:nvPicPr>
        <p:blipFill>
          <a:blip r:embed="rId2"/>
          <a:stretch/>
        </p:blipFill>
        <p:spPr>
          <a:xfrm>
            <a:off x="0" y="5229360"/>
            <a:ext cx="1235160" cy="162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60eec5a934fb0c1ca602bb96c4b9c1d0"/>
          <p:cNvPicPr/>
          <p:nvPr/>
        </p:nvPicPr>
        <p:blipFill>
          <a:blip r:embed="rId3"/>
          <a:stretch/>
        </p:blipFill>
        <p:spPr>
          <a:xfrm>
            <a:off x="6877080" y="4699080"/>
            <a:ext cx="1517760" cy="21589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13228E-006 L 0.30712 -0.26225 E">
                                      <p:cBhvr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-0.26226 L 9.44444E-006 0.01064 E">
                                      <p:cBhvr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04995E-006 L -0.19688 -0.33579 E">
                                      <p:cBhvr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8 -0.3358 L 0.00781 0.01041 E">
                                      <p:cBhvr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244080"/>
            <a:ext cx="543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любишь с ветерком Лихо покататься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шины часто 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ишь зацепляться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плохо ты учил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збуку дороги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легко переломать руки , да и ноги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7" descr="1002464"/>
          <p:cNvPicPr/>
          <p:nvPr/>
        </p:nvPicPr>
        <p:blipFill>
          <a:blip r:embed="rId1"/>
          <a:stretch/>
        </p:blipFill>
        <p:spPr>
          <a:xfrm>
            <a:off x="5292720" y="260280"/>
            <a:ext cx="3594240" cy="504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ed209e1e422387281c64e9be1b8da85e"/>
          <p:cNvPicPr/>
          <p:nvPr/>
        </p:nvPicPr>
        <p:blipFill>
          <a:blip r:embed="rId2"/>
          <a:stretch/>
        </p:blipFill>
        <p:spPr>
          <a:xfrm>
            <a:off x="179280" y="5084640"/>
            <a:ext cx="1266840" cy="153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ed209e1e422387281c64e9be1b8da85e"/>
          <p:cNvPicPr/>
          <p:nvPr/>
        </p:nvPicPr>
        <p:blipFill>
          <a:blip r:embed="rId3"/>
          <a:stretch/>
        </p:blipFill>
        <p:spPr>
          <a:xfrm>
            <a:off x="1187280" y="5157720"/>
            <a:ext cx="1266840" cy="153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ed209e1e422387281c64e9be1b8da85e"/>
          <p:cNvPicPr/>
          <p:nvPr/>
        </p:nvPicPr>
        <p:blipFill>
          <a:blip r:embed="rId4"/>
          <a:stretch/>
        </p:blipFill>
        <p:spPr>
          <a:xfrm>
            <a:off x="-973080" y="5157720"/>
            <a:ext cx="126684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ed209e1e422387281c64e9be1b8da85e"/>
          <p:cNvPicPr/>
          <p:nvPr/>
        </p:nvPicPr>
        <p:blipFill>
          <a:blip r:embed="rId5"/>
          <a:stretch/>
        </p:blipFill>
        <p:spPr>
          <a:xfrm>
            <a:off x="-2124000" y="5157720"/>
            <a:ext cx="1266840" cy="153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ed209e1e422387281c64e9be1b8da85e"/>
          <p:cNvPicPr/>
          <p:nvPr/>
        </p:nvPicPr>
        <p:blipFill>
          <a:blip r:embed="rId6"/>
          <a:stretch/>
        </p:blipFill>
        <p:spPr>
          <a:xfrm>
            <a:off x="-3349800" y="5084640"/>
            <a:ext cx="1266840" cy="153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ed209e1e422387281c64e9be1b8da85e"/>
          <p:cNvPicPr/>
          <p:nvPr/>
        </p:nvPicPr>
        <p:blipFill>
          <a:blip r:embed="rId7"/>
          <a:stretch/>
        </p:blipFill>
        <p:spPr>
          <a:xfrm>
            <a:off x="-4500720" y="5013360"/>
            <a:ext cx="1266840" cy="153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ed209e1e422387281c64e9be1b8da85e"/>
          <p:cNvPicPr/>
          <p:nvPr/>
        </p:nvPicPr>
        <p:blipFill>
          <a:blip r:embed="rId8"/>
          <a:stretch/>
        </p:blipFill>
        <p:spPr>
          <a:xfrm>
            <a:off x="-6300720" y="5013360"/>
            <a:ext cx="1266840" cy="15336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29325E-006 L 0.84253 -3.29325E-006 E">
                                      <p:cBhvr>
                                        <p:cTn id="58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025E-007 L 0.63785 -0.01041 E">
                                      <p:cBhvr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259E-006 L 0.76389 -0.01041 E">
                                      <p:cBhvr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025E-007 L 0.76372 3.33025E-007 E">
                                      <p:cBhvr>
                                        <p:cTn id="7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03515E-006 L 0.77188 2.03515E-006 E">
                                      <p:cBhvr>
                                        <p:cTn id="8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03515E-006 L 0.75608 2.03515E-006 E">
                                      <p:cBhvr>
                                        <p:cTn id="8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03515E-006 L 0.7559 0.01041 E">
                                      <p:cBhvr>
                                        <p:cTn id="9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189000"/>
            <a:ext cx="6981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гда на санках быстро едеш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горы высокой прямо вниз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ы друга можешь не заметит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ждёт тебя ,конечно, гипс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8" descr="click?url=http%3A%2F%2Ftyumen"/>
          <p:cNvPicPr/>
          <p:nvPr/>
        </p:nvPicPr>
        <p:blipFill>
          <a:blip r:embed="rId1"/>
          <a:stretch/>
        </p:blipFill>
        <p:spPr>
          <a:xfrm>
            <a:off x="826920" y="3141720"/>
            <a:ext cx="4249800" cy="318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b11cdcd8c4e41d949a390a0ac4ed8342"/>
          <p:cNvPicPr/>
          <p:nvPr/>
        </p:nvPicPr>
        <p:blipFill>
          <a:blip r:embed="rId2"/>
          <a:stretch/>
        </p:blipFill>
        <p:spPr>
          <a:xfrm>
            <a:off x="7093080" y="260280"/>
            <a:ext cx="1743120" cy="1743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232598438_fk-zimkanikuli-big"/>
          <p:cNvPicPr/>
          <p:nvPr/>
        </p:nvPicPr>
        <p:blipFill>
          <a:blip r:embed="rId3"/>
          <a:stretch/>
        </p:blipFill>
        <p:spPr>
          <a:xfrm>
            <a:off x="5940360" y="256536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c2d0368ff7e2"/>
          <p:cNvPicPr/>
          <p:nvPr/>
        </p:nvPicPr>
        <p:blipFill>
          <a:blip r:embed="rId4"/>
          <a:stretch/>
        </p:blipFill>
        <p:spPr>
          <a:xfrm>
            <a:off x="6948360" y="5229360"/>
            <a:ext cx="1165320" cy="11649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506E-006 L -0.74028 0.19936 E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3.9778E-007 L 0.00972 3.9778E-007 E">
                                      <p:cBhvr>
                                        <p:cTn id="13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s4134_1258120140_1"/>
          <p:cNvPicPr/>
          <p:nvPr/>
        </p:nvPicPr>
        <p:blipFill>
          <a:blip r:embed="rId1"/>
          <a:stretch/>
        </p:blipFill>
        <p:spPr>
          <a:xfrm>
            <a:off x="4643280" y="260280"/>
            <a:ext cx="4211640" cy="28418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таться с горк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ак прекрас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о у дорог-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всегда опасно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чатся по дорога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ыстрые машины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ете попасть вы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ямо к ним под ш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1259556050_konkursbig"/>
          <p:cNvPicPr/>
          <p:nvPr/>
        </p:nvPicPr>
        <p:blipFill>
          <a:blip r:embed="rId2"/>
          <a:stretch/>
        </p:blipFill>
        <p:spPr>
          <a:xfrm>
            <a:off x="2700360" y="3860640"/>
            <a:ext cx="5249880" cy="262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fa0f18dbae16ae8e6888978a1d201394"/>
          <p:cNvPicPr/>
          <p:nvPr/>
        </p:nvPicPr>
        <p:blipFill>
          <a:blip r:embed="rId3"/>
          <a:stretch/>
        </p:blipFill>
        <p:spPr>
          <a:xfrm>
            <a:off x="611280" y="4365720"/>
            <a:ext cx="1562040" cy="1657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8"/>
          <p:cNvSpPr/>
          <p:nvPr/>
        </p:nvSpPr>
        <p:spPr>
          <a:xfrm>
            <a:off x="3857760" y="2714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2286000" y="2644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0" y="213372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ходи под крышей-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рыше снег и лёд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ульки могут падать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кто-то идёт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Picture 8" descr="0_222d6_988d16f4_XL"/>
          <p:cNvPicPr/>
          <p:nvPr/>
        </p:nvPicPr>
        <p:blipFill>
          <a:blip r:embed="rId2"/>
          <a:stretch/>
        </p:blipFill>
        <p:spPr>
          <a:xfrm>
            <a:off x="5330880" y="1413000"/>
            <a:ext cx="381312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sm"/>
          <p:cNvPicPr/>
          <p:nvPr/>
        </p:nvPicPr>
        <p:blipFill>
          <a:blip r:embed="rId1"/>
          <a:stretch/>
        </p:blipFill>
        <p:spPr>
          <a:xfrm>
            <a:off x="2124000" y="2592360"/>
            <a:ext cx="5689800" cy="4265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250920" y="189000"/>
            <a:ext cx="72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мороз до минус двадцать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 друзьями ты идёшь гулять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прежде ,чем в снежки играть,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мни, лёд нельзя бросать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6" descr="9a55ab6439131b9664ba9b02caca30bc"/>
          <p:cNvPicPr/>
          <p:nvPr/>
        </p:nvPicPr>
        <p:blipFill>
          <a:blip r:embed="rId2"/>
          <a:stretch/>
        </p:blipFill>
        <p:spPr>
          <a:xfrm>
            <a:off x="7040520" y="0"/>
            <a:ext cx="2103480" cy="210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8c52cc508b4ef9be2e3314bf7c7d8543"/>
          <p:cNvPicPr/>
          <p:nvPr/>
        </p:nvPicPr>
        <p:blipFill>
          <a:blip r:embed="rId3"/>
          <a:stretch/>
        </p:blipFill>
        <p:spPr>
          <a:xfrm>
            <a:off x="0" y="5403960"/>
            <a:ext cx="3294000" cy="14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83f1e75717b5fa86d7738b0177522c82"/>
          <p:cNvPicPr/>
          <p:nvPr/>
        </p:nvPicPr>
        <p:blipFill>
          <a:blip r:embed="rId4"/>
          <a:stretch/>
        </p:blipFill>
        <p:spPr>
          <a:xfrm>
            <a:off x="7381800" y="5172120"/>
            <a:ext cx="1762200" cy="16858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50920" y="26028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лки лыжные остры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и сильно не маши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шь другу навредить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 ему один подбить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5" descr="click?url=http%3A%2F%2Fwww"/>
          <p:cNvPicPr/>
          <p:nvPr/>
        </p:nvPicPr>
        <p:blipFill>
          <a:blip r:embed="rId1"/>
          <a:stretch/>
        </p:blipFill>
        <p:spPr>
          <a:xfrm>
            <a:off x="2484360" y="2997360"/>
            <a:ext cx="5334120" cy="361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f1be40646cca1d8e57f6f80000a82835"/>
          <p:cNvPicPr/>
          <p:nvPr/>
        </p:nvPicPr>
        <p:blipFill>
          <a:blip r:embed="rId2"/>
          <a:stretch/>
        </p:blipFill>
        <p:spPr>
          <a:xfrm>
            <a:off x="7596360" y="-674640"/>
            <a:ext cx="2693880" cy="209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7c9f285a96ee2d4fffdc8da8af4c432"/>
          <p:cNvPicPr/>
          <p:nvPr/>
        </p:nvPicPr>
        <p:blipFill>
          <a:blip r:embed="rId3"/>
          <a:stretch/>
        </p:blipFill>
        <p:spPr>
          <a:xfrm>
            <a:off x="7740720" y="1989000"/>
            <a:ext cx="1179360" cy="117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ece3f295188d5c4003755c539c37338e"/>
          <p:cNvPicPr/>
          <p:nvPr/>
        </p:nvPicPr>
        <p:blipFill>
          <a:blip r:embed="rId4"/>
          <a:stretch/>
        </p:blipFill>
        <p:spPr>
          <a:xfrm>
            <a:off x="0" y="2924280"/>
            <a:ext cx="1825560" cy="1825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26457E-006 C -0.17187 0.11702 -0.34375 0.23428 -0.41962 0.28515 C -0.49549 0.33603 -0.44878 0.30227 -0.45486 0.30574 E">
                                      <p:cBhvr>
                                        <p:cTn id="20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29047E-006 C 0.34791 0.09205 0.69583 0.18433 0.83385 0.22133 E">
                                      <p:cBhvr>
                                        <p:cTn id="2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876E-007 L -0.82691 0.52451 E">
                                      <p:cBhvr>
                                        <p:cTn id="22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4:09:56Z</dcterms:created>
  <dc:creator>Рустемка</dc:creator>
  <dc:description/>
  <dc:language>en-US</dc:language>
  <cp:lastModifiedBy>1</cp:lastModifiedBy>
  <dcterms:modified xsi:type="dcterms:W3CDTF">2016-12-28T05:50:00Z</dcterms:modified>
  <cp:revision>219</cp:revision>
  <dc:subject/>
  <dc:title>Слайд 1</dc:title>
</cp:coreProperties>
</file>