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1.jpeg" ContentType="image/jpeg"/>
  <Override PartName="/ppt/media/image32.wmf" ContentType="image/x-wmf"/>
  <Override PartName="/ppt/media/image16.wmf" ContentType="image/x-wmf"/>
  <Override PartName="/ppt/media/image8.png" ContentType="image/png"/>
  <Override PartName="/ppt/media/image29.jpeg" ContentType="image/jpeg"/>
  <Override PartName="/ppt/media/image10.jpeg" ContentType="image/jpeg"/>
  <Override PartName="/ppt/media/image13.wmf" ContentType="image/x-wmf"/>
  <Override PartName="/ppt/media/image28.png" ContentType="image/png"/>
  <Override PartName="/ppt/media/image7.jpeg" ContentType="image/jpeg"/>
  <Override PartName="/ppt/media/image12.jpeg" ContentType="image/jpeg"/>
  <Override PartName="/ppt/media/image34.png" ContentType="image/png"/>
  <Override PartName="/ppt/media/image17.wmf" ContentType="image/x-wmf"/>
  <Override PartName="/ppt/media/image11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14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18.wmf" ContentType="image/x-wmf"/>
  <Override PartName="/ppt/media/image2.jpeg" ContentType="image/jpeg"/>
  <Override PartName="/ppt/media/image23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9.png" ContentType="image/pn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B22-8205-46D6-802D-F835E1F1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812-6412-4195-B01F-8494BD4D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6A8-A2FD-4AB1-A6DE-EFB4C703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836-E3AC-45BB-8D3F-5CCBE7E5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DA9D-187C-4648-9E33-8C4A4466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2102-F454-4614-B577-E7BCB95F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4146-491E-4B31-8F92-9CD59C89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A425-62BA-47D5-B56E-380000C4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90BD-9FFD-4BBB-8059-819E7AA0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-6372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755F-877F-4A4C-8143-CCC45CC4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B912-796E-4F58-BF96-6BABBB50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7D2-03DD-4D61-B4C0-C543A781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BFED-B413-4420-83B6-DEDA1B5D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D511-A427-4432-9DE8-F80D77D8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4DED-543E-4A07-9018-C50CFB0E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DD23-618D-46D9-BE2B-70E4BCA9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73FA-4999-40C1-BD4F-0840B2D5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82C-8472-46F9-8534-5ADC0D29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869-43A5-4C77-A35A-E7F04030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600-AACF-4BE1-A954-B8FD0007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-6372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DE7-DD50-492E-B033-4C81E363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244-53BC-4C2E-974E-6DF89C6E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7B3-50DC-4B48-9370-65D1200D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F0C-E48C-4DD5-AE7C-18A29D0E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C230-30B9-4829-AFF9-055E47D5F2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459080"/>
            <a:ext cx="9144000" cy="142560"/>
          </a:xfrm>
          <a:prstGeom prst="rect">
            <a:avLst/>
          </a:prstGeom>
          <a:solidFill>
            <a:srgbClr val="996633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459080"/>
            <a:ext cx="9144000" cy="142560"/>
          </a:xfrm>
          <a:prstGeom prst="rect">
            <a:avLst/>
          </a:prstGeom>
          <a:solidFill>
            <a:srgbClr val="996633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олени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13636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0" y="0"/>
            <a:ext cx="9144000" cy="239760"/>
          </a:xfrm>
          <a:prstGeom prst="rect">
            <a:avLst/>
          </a:prstGeom>
          <a:solidFill>
            <a:srgbClr val="b7c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4312-C4A8-4F05-9910-5850A3FD9D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1459080"/>
            <a:ext cx="9144000" cy="142560"/>
          </a:xfrm>
          <a:prstGeom prst="rect">
            <a:avLst/>
          </a:prstGeom>
          <a:solidFill>
            <a:srgbClr val="996633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1459080"/>
            <a:ext cx="9144000" cy="142560"/>
          </a:xfrm>
          <a:prstGeom prst="rect">
            <a:avLst/>
          </a:prstGeom>
          <a:solidFill>
            <a:srgbClr val="996633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олени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1363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0" y="0"/>
            <a:ext cx="9144000" cy="239760"/>
          </a:xfrm>
          <a:prstGeom prst="rect">
            <a:avLst/>
          </a:prstGeom>
          <a:solidFill>
            <a:srgbClr val="b7c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54000" rIns="54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5.wmf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0.jpeg"/><Relationship Id="rId3" Type="http://schemas.openxmlformats.org/officeDocument/2006/relationships/image" Target="../media/image29.jpe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54000" r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Животный мир тундры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1322280" y="1857240"/>
            <a:ext cx="87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1322280" y="1857240"/>
            <a:ext cx="94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4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9"/>
          <p:cNvSpPr/>
          <p:nvPr/>
        </p:nvSpPr>
        <p:spPr>
          <a:xfrm>
            <a:off x="1322280" y="1857240"/>
            <a:ext cx="87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44"/>
          <p:cNvSpPr/>
          <p:nvPr/>
        </p:nvSpPr>
        <p:spPr>
          <a:xfrm>
            <a:off x="1322280" y="1857240"/>
            <a:ext cx="94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55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2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92"/>
          <p:cNvSpPr/>
          <p:nvPr/>
        </p:nvSpPr>
        <p:spPr>
          <a:xfrm>
            <a:off x="5651640" y="234936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96"/>
          <p:cNvSpPr/>
          <p:nvPr/>
        </p:nvSpPr>
        <p:spPr>
          <a:xfrm>
            <a:off x="2533680" y="2085840"/>
            <a:ext cx="579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01"/>
          <p:cNvSpPr/>
          <p:nvPr/>
        </p:nvSpPr>
        <p:spPr>
          <a:xfrm>
            <a:off x="2533680" y="2085840"/>
            <a:ext cx="62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12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29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53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571920" y="3000240"/>
          <a:ext cx="3467160" cy="2500560"/>
        </p:xfrm>
        <a:graphic>
          <a:graphicData uri="http://schemas.openxmlformats.org/drawingml/2006/table">
            <a:tbl>
              <a:tblPr/>
              <a:tblGrid>
                <a:gridCol w="377640"/>
                <a:gridCol w="398520"/>
                <a:gridCol w="389160"/>
                <a:gridCol w="379440"/>
                <a:gridCol w="377640"/>
                <a:gridCol w="388800"/>
                <a:gridCol w="379440"/>
                <a:gridCol w="398520"/>
                <a:gridCol w="378000"/>
              </a:tblGrid>
              <a:tr h="34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1024" descr="C:\Users\1\Desktop\Выпускная МаринаС\Компьютерные курсы  Уксусникова М.С\3 день ИКТ\POWER POINT\Гиперссылки СОШ\Урок\Вопросы\Вопрос1.emf"/>
          <p:cNvPicPr/>
          <p:nvPr/>
        </p:nvPicPr>
        <p:blipFill>
          <a:blip r:embed="rId1"/>
          <a:stretch/>
        </p:blipFill>
        <p:spPr>
          <a:xfrm>
            <a:off x="285840" y="1643040"/>
            <a:ext cx="4357440" cy="644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1\Desktop\Выпускная МаринаС\Компьютерные курсы  Уксусникова М.С\3 день ИКТ\POWER POINT\Гиперссылки СОШ\Урок\Картинки\Картинки к 1 вопросу\Правильный ответ.jpg"/>
          <p:cNvPicPr/>
          <p:nvPr/>
        </p:nvPicPr>
        <p:blipFill>
          <a:blip r:embed="rId2"/>
          <a:stretch/>
        </p:blipFill>
        <p:spPr>
          <a:xfrm>
            <a:off x="6572160" y="1857240"/>
            <a:ext cx="1805040" cy="1262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1\Desktop\Выпускная МаринаС\Компьютерные курсы  Уксусникова М.С\3 день ИКТ\POWER POINT\Гиперссылки СОШ\Урок\Картинки\Картинки к 1 вопросу\Рисунок2.jpg"/>
          <p:cNvPicPr/>
          <p:nvPr/>
        </p:nvPicPr>
        <p:blipFill>
          <a:blip r:embed="rId3"/>
          <a:stretch/>
        </p:blipFill>
        <p:spPr>
          <a:xfrm>
            <a:off x="2357280" y="2643120"/>
            <a:ext cx="1257480" cy="179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1\Desktop\Выпускная МаринаС\Компьютерные курсы  Уксусникова М.С\3 день ИКТ\POWER POINT\Гиперссылки СОШ\Урок\Картинки\Картинки к 1 вопросу\Рисунок5.jpg"/>
          <p:cNvPicPr/>
          <p:nvPr/>
        </p:nvPicPr>
        <p:blipFill>
          <a:blip r:embed="rId4"/>
          <a:stretch/>
        </p:blipFill>
        <p:spPr>
          <a:xfrm>
            <a:off x="785880" y="5000760"/>
            <a:ext cx="1946160" cy="1284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28" descr="C:\Users\1\Desktop\Выпускная МаринаС\Компьютерные курсы  Уксусникова М.С\3 день ИКТ\POWER POINT\Гиперссылки СОШ\Урок\Картинки\Картинки к 1 вопросу\Рисунок4.jpg"/>
          <p:cNvPicPr/>
          <p:nvPr/>
        </p:nvPicPr>
        <p:blipFill>
          <a:blip r:embed="rId5"/>
          <a:stretch/>
        </p:blipFill>
        <p:spPr>
          <a:xfrm>
            <a:off x="6786720" y="5072040"/>
            <a:ext cx="180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54000" r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Животный мир тундры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1322280" y="1857240"/>
            <a:ext cx="87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1322280" y="1857240"/>
            <a:ext cx="94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9"/>
          <p:cNvSpPr/>
          <p:nvPr/>
        </p:nvSpPr>
        <p:spPr>
          <a:xfrm>
            <a:off x="1322280" y="1857240"/>
            <a:ext cx="87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4"/>
          <p:cNvSpPr/>
          <p:nvPr/>
        </p:nvSpPr>
        <p:spPr>
          <a:xfrm>
            <a:off x="1322280" y="1857240"/>
            <a:ext cx="94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55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72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92"/>
          <p:cNvSpPr/>
          <p:nvPr/>
        </p:nvSpPr>
        <p:spPr>
          <a:xfrm>
            <a:off x="5651640" y="234936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96"/>
          <p:cNvSpPr/>
          <p:nvPr/>
        </p:nvSpPr>
        <p:spPr>
          <a:xfrm>
            <a:off x="2533680" y="2085840"/>
            <a:ext cx="579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01"/>
          <p:cNvSpPr/>
          <p:nvPr/>
        </p:nvSpPr>
        <p:spPr>
          <a:xfrm>
            <a:off x="2533680" y="2085840"/>
            <a:ext cx="62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12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29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53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571920" y="3000240"/>
          <a:ext cx="3467160" cy="2500560"/>
        </p:xfrm>
        <a:graphic>
          <a:graphicData uri="http://schemas.openxmlformats.org/drawingml/2006/table">
            <a:tbl>
              <a:tblPr/>
              <a:tblGrid>
                <a:gridCol w="377640"/>
                <a:gridCol w="398520"/>
                <a:gridCol w="389160"/>
                <a:gridCol w="379440"/>
                <a:gridCol w="377640"/>
                <a:gridCol w="388800"/>
                <a:gridCol w="379440"/>
                <a:gridCol w="398520"/>
                <a:gridCol w="378000"/>
              </a:tblGrid>
              <a:tr h="34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Picture 1025" descr="C:\Users\1\Desktop\Выпускная МаринаС\Компьютерные курсы  Уксусникова М.С\3 день ИКТ\POWER POINT\Гиперссылки СОШ\Урок\Вопросы\Вопрос2.emf"/>
          <p:cNvPicPr/>
          <p:nvPr/>
        </p:nvPicPr>
        <p:blipFill>
          <a:blip r:embed="rId1"/>
          <a:stretch/>
        </p:blipFill>
        <p:spPr>
          <a:xfrm>
            <a:off x="214200" y="2928960"/>
            <a:ext cx="4357800" cy="644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1\Desktop\Выпускная МаринаС\Компьютерные курсы  Уксусникова М.С\3 день ИКТ\POWER POINT\Гиперссылки СОШ\Урок\Картинки\Картинки к 2 вопросу\Правильный ответ.jpg"/>
          <p:cNvPicPr/>
          <p:nvPr/>
        </p:nvPicPr>
        <p:blipFill>
          <a:blip r:embed="rId2"/>
          <a:stretch/>
        </p:blipFill>
        <p:spPr>
          <a:xfrm>
            <a:off x="4143240" y="1928880"/>
            <a:ext cx="1603440" cy="1225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1\Desktop\Выпускная МаринаС\Компьютерные курсы  Уксусникова М.С\3 день ИКТ\POWER POINT\Гиперссылки СОШ\Урок\Картинки\Картинки к 2 вопросу\Рисунок1.jpg"/>
          <p:cNvPicPr/>
          <p:nvPr/>
        </p:nvPicPr>
        <p:blipFill>
          <a:blip r:embed="rId3"/>
          <a:stretch/>
        </p:blipFill>
        <p:spPr>
          <a:xfrm>
            <a:off x="7500960" y="4572000"/>
            <a:ext cx="1415880" cy="1816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1\Desktop\Выпускная МаринаС\Компьютерные курсы  Уксусникова М.С\3 день ИКТ\POWER POINT\Гиперссылки СОШ\Урок\Картинки\Картинки к 2 вопросу\Рисунок2.jpg"/>
          <p:cNvPicPr/>
          <p:nvPr/>
        </p:nvPicPr>
        <p:blipFill>
          <a:blip r:embed="rId4"/>
          <a:stretch/>
        </p:blipFill>
        <p:spPr>
          <a:xfrm>
            <a:off x="6643800" y="2071800"/>
            <a:ext cx="1803240" cy="1181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1\Desktop\Выпускная МаринаС\Компьютерные курсы  Уксусникова М.С\3 день ИКТ\POWER POINT\Гиперссылки СОШ\Урок\Картинки\Картинки к 2 вопросу\Рисунок3.jpg"/>
          <p:cNvPicPr/>
          <p:nvPr/>
        </p:nvPicPr>
        <p:blipFill>
          <a:blip r:embed="rId5"/>
          <a:stretch/>
        </p:blipFill>
        <p:spPr>
          <a:xfrm>
            <a:off x="857160" y="4071960"/>
            <a:ext cx="1714680" cy="1181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1" descr="C:\Users\1\Desktop\Выпускная МаринаС\Гиперссылки СОШ\Урок\Буквы\Т.emf"/>
          <p:cNvPicPr/>
          <p:nvPr/>
        </p:nvPicPr>
        <p:blipFill>
          <a:blip r:embed="rId6"/>
          <a:stretch/>
        </p:blipFill>
        <p:spPr>
          <a:xfrm>
            <a:off x="30240" y="1641600"/>
            <a:ext cx="596880" cy="57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7" descr="C:\Users\1\Desktop\Выпускная МаринаС\Гиперссылки СОШ\Урок\Буквы\У.emf"/>
          <p:cNvPicPr/>
          <p:nvPr/>
        </p:nvPicPr>
        <p:blipFill>
          <a:blip r:embed="rId7"/>
          <a:stretch/>
        </p:blipFill>
        <p:spPr>
          <a:xfrm>
            <a:off x="878040" y="1623960"/>
            <a:ext cx="444240" cy="531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8" descr="C:\Users\1\Desktop\Выпускная МаринаС\Гиперссылки СОШ\Урок\Буквы\Н.emf"/>
          <p:cNvPicPr/>
          <p:nvPr/>
        </p:nvPicPr>
        <p:blipFill>
          <a:blip r:embed="rId8"/>
          <a:stretch/>
        </p:blipFill>
        <p:spPr>
          <a:xfrm>
            <a:off x="1528920" y="1698480"/>
            <a:ext cx="444240" cy="532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9" descr="C:\Users\1\Desktop\Выпускная МаринаС\Гиперссылки СОШ\Урок\Буквы\Д.emf"/>
          <p:cNvPicPr/>
          <p:nvPr/>
        </p:nvPicPr>
        <p:blipFill>
          <a:blip r:embed="rId9"/>
          <a:stretch/>
        </p:blipFill>
        <p:spPr>
          <a:xfrm>
            <a:off x="2089080" y="1539720"/>
            <a:ext cx="444600" cy="53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0" descr="C:\Users\1\Desktop\Выпускная МаринаС\Гиперссылки СОШ\Урок\Буквы\Р.emf"/>
          <p:cNvPicPr/>
          <p:nvPr/>
        </p:nvPicPr>
        <p:blipFill>
          <a:blip r:embed="rId10"/>
          <a:stretch/>
        </p:blipFill>
        <p:spPr>
          <a:xfrm>
            <a:off x="2765520" y="1681200"/>
            <a:ext cx="444240" cy="531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1" descr="C:\Users\1\Desktop\Выпускная МаринаС\Гиперссылки СОШ\Урок\Буквы\А.emf"/>
          <p:cNvPicPr/>
          <p:nvPr/>
        </p:nvPicPr>
        <p:blipFill>
          <a:blip r:embed="rId11"/>
          <a:stretch/>
        </p:blipFill>
        <p:spPr>
          <a:xfrm>
            <a:off x="3286080" y="1560600"/>
            <a:ext cx="444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54000" r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Животный мир тундры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322280" y="1857240"/>
            <a:ext cx="87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1322280" y="1857240"/>
            <a:ext cx="94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4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39"/>
          <p:cNvSpPr/>
          <p:nvPr/>
        </p:nvSpPr>
        <p:spPr>
          <a:xfrm>
            <a:off x="1322280" y="1857240"/>
            <a:ext cx="87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44"/>
          <p:cNvSpPr/>
          <p:nvPr/>
        </p:nvSpPr>
        <p:spPr>
          <a:xfrm>
            <a:off x="1322280" y="1857240"/>
            <a:ext cx="94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55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2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92"/>
          <p:cNvSpPr/>
          <p:nvPr/>
        </p:nvSpPr>
        <p:spPr>
          <a:xfrm>
            <a:off x="5651640" y="234936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96"/>
          <p:cNvSpPr/>
          <p:nvPr/>
        </p:nvSpPr>
        <p:spPr>
          <a:xfrm>
            <a:off x="2533680" y="2085840"/>
            <a:ext cx="579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01"/>
          <p:cNvSpPr/>
          <p:nvPr/>
        </p:nvSpPr>
        <p:spPr>
          <a:xfrm>
            <a:off x="2533680" y="2085840"/>
            <a:ext cx="62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12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29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53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571920" y="3000240"/>
          <a:ext cx="3467160" cy="2500560"/>
        </p:xfrm>
        <a:graphic>
          <a:graphicData uri="http://schemas.openxmlformats.org/drawingml/2006/table">
            <a:tbl>
              <a:tblPr/>
              <a:tblGrid>
                <a:gridCol w="377640"/>
                <a:gridCol w="398520"/>
                <a:gridCol w="389160"/>
                <a:gridCol w="379440"/>
                <a:gridCol w="377640"/>
                <a:gridCol w="388800"/>
                <a:gridCol w="379440"/>
                <a:gridCol w="398520"/>
                <a:gridCol w="378000"/>
              </a:tblGrid>
              <a:tr h="34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1026" descr="C:\Users\1\Desktop\Выпускная МаринаС\Компьютерные курсы  Уксусникова М.С\3 день ИКТ\POWER POINT\Гиперссылки СОШ\Урок\Вопросы\Вопрос3.emf"/>
          <p:cNvPicPr/>
          <p:nvPr/>
        </p:nvPicPr>
        <p:blipFill>
          <a:blip r:embed="rId1"/>
          <a:stretch/>
        </p:blipFill>
        <p:spPr>
          <a:xfrm>
            <a:off x="428760" y="2286000"/>
            <a:ext cx="4357440" cy="374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1\Desktop\Выпускная МаринаС\Компьютерные курсы  Уксусникова М.С\3 день ИКТ\POWER POINT\Гиперссылки СОШ\Урок\Картинки\Картинки к 3 вопросу\Правильный ответ.jpg"/>
          <p:cNvPicPr/>
          <p:nvPr/>
        </p:nvPicPr>
        <p:blipFill>
          <a:blip r:embed="rId2"/>
          <a:stretch/>
        </p:blipFill>
        <p:spPr>
          <a:xfrm>
            <a:off x="7215120" y="1857240"/>
            <a:ext cx="1206720" cy="1505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1\Desktop\Выпускная МаринаС\Компьютерные курсы  Уксусникова М.С\3 день ИКТ\POWER POINT\Гиперссылки СОШ\Урок\Картинки\Картинки к 3 вопросу\Рисунок1.jpg"/>
          <p:cNvPicPr/>
          <p:nvPr/>
        </p:nvPicPr>
        <p:blipFill>
          <a:blip r:embed="rId3"/>
          <a:stretch/>
        </p:blipFill>
        <p:spPr>
          <a:xfrm>
            <a:off x="1143000" y="2714760"/>
            <a:ext cx="1876320" cy="1533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Users\1\Desktop\Выпускная МаринаС\Компьютерные курсы  Уксусникова М.С\3 день ИКТ\POWER POINT\Гиперссылки СОШ\Урок\Картинки\Картинки к 3 вопросу\Рисунок2.jpg"/>
          <p:cNvPicPr/>
          <p:nvPr/>
        </p:nvPicPr>
        <p:blipFill>
          <a:blip r:embed="rId4"/>
          <a:stretch/>
        </p:blipFill>
        <p:spPr>
          <a:xfrm>
            <a:off x="1428840" y="4429080"/>
            <a:ext cx="1797120" cy="1181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C:\Users\1\Desktop\Выпускная МаринаС\Компьютерные курсы  Уксусникова М.С\3 день ИКТ\POWER POINT\Гиперссылки СОШ\Урок\Картинки\Картинки к 3 вопросу\Рисунок3.jpg"/>
          <p:cNvPicPr/>
          <p:nvPr/>
        </p:nvPicPr>
        <p:blipFill>
          <a:blip r:embed="rId5"/>
          <a:stretch/>
        </p:blipFill>
        <p:spPr>
          <a:xfrm>
            <a:off x="6715080" y="4714920"/>
            <a:ext cx="1409760" cy="1752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9" descr="C:\Users\1\Desktop\Выпускная МаринаС\Гиперссылки СОШ\Урок\Буквы\П.emf"/>
          <p:cNvPicPr/>
          <p:nvPr/>
        </p:nvPicPr>
        <p:blipFill>
          <a:blip r:embed="rId6"/>
          <a:stretch/>
        </p:blipFill>
        <p:spPr>
          <a:xfrm>
            <a:off x="1528920" y="5908680"/>
            <a:ext cx="442800" cy="531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6" descr="C:\Users\1\Desktop\Выпускная МаринаС\Гиперссылки СОШ\Урок\Буквы\Е.emf"/>
          <p:cNvPicPr/>
          <p:nvPr/>
        </p:nvPicPr>
        <p:blipFill>
          <a:blip r:embed="rId7"/>
          <a:stretch/>
        </p:blipFill>
        <p:spPr>
          <a:xfrm>
            <a:off x="2270160" y="5907240"/>
            <a:ext cx="442800" cy="531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4" descr="C:\Users\1\Desktop\Выпускная МаринаС\Гиперссылки СОШ\Урок\Буквы\С.emf"/>
          <p:cNvPicPr/>
          <p:nvPr/>
        </p:nvPicPr>
        <p:blipFill>
          <a:blip r:embed="rId8"/>
          <a:stretch/>
        </p:blipFill>
        <p:spPr>
          <a:xfrm>
            <a:off x="2846520" y="5907240"/>
            <a:ext cx="442800" cy="531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8" descr="C:\Users\1\Desktop\Выпускная МаринаС\Гиперссылки СОШ\Урок\Буквы\Е.emf"/>
          <p:cNvPicPr/>
          <p:nvPr/>
        </p:nvPicPr>
        <p:blipFill>
          <a:blip r:embed="rId9"/>
          <a:stretch/>
        </p:blipFill>
        <p:spPr>
          <a:xfrm>
            <a:off x="3492360" y="5907240"/>
            <a:ext cx="443160" cy="531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9" descr="C:\Users\1\Desktop\Выпускная МаринаС\Гиперссылки СОШ\Урок\Буквы\Ц.emf"/>
          <p:cNvPicPr/>
          <p:nvPr/>
        </p:nvPicPr>
        <p:blipFill>
          <a:blip r:embed="rId10"/>
          <a:stretch/>
        </p:blipFill>
        <p:spPr>
          <a:xfrm>
            <a:off x="3989520" y="5907240"/>
            <a:ext cx="4428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54000" r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Животный мир тундры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1322280" y="1857240"/>
            <a:ext cx="87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1322280" y="1857240"/>
            <a:ext cx="94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4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39"/>
          <p:cNvSpPr/>
          <p:nvPr/>
        </p:nvSpPr>
        <p:spPr>
          <a:xfrm>
            <a:off x="1322280" y="1857240"/>
            <a:ext cx="87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44"/>
          <p:cNvSpPr/>
          <p:nvPr/>
        </p:nvSpPr>
        <p:spPr>
          <a:xfrm>
            <a:off x="1322280" y="1857240"/>
            <a:ext cx="94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55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72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92"/>
          <p:cNvSpPr/>
          <p:nvPr/>
        </p:nvSpPr>
        <p:spPr>
          <a:xfrm>
            <a:off x="5651640" y="234936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96"/>
          <p:cNvSpPr/>
          <p:nvPr/>
        </p:nvSpPr>
        <p:spPr>
          <a:xfrm>
            <a:off x="2533680" y="2085840"/>
            <a:ext cx="579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01"/>
          <p:cNvSpPr/>
          <p:nvPr/>
        </p:nvSpPr>
        <p:spPr>
          <a:xfrm>
            <a:off x="2533680" y="2085840"/>
            <a:ext cx="62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12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29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53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571920" y="3000240"/>
          <a:ext cx="3467160" cy="2500560"/>
        </p:xfrm>
        <a:graphic>
          <a:graphicData uri="http://schemas.openxmlformats.org/drawingml/2006/table">
            <a:tbl>
              <a:tblPr/>
              <a:tblGrid>
                <a:gridCol w="377640"/>
                <a:gridCol w="398520"/>
                <a:gridCol w="389160"/>
                <a:gridCol w="379440"/>
                <a:gridCol w="377640"/>
                <a:gridCol w="388800"/>
                <a:gridCol w="379440"/>
                <a:gridCol w="398520"/>
                <a:gridCol w="378000"/>
              </a:tblGrid>
              <a:tr h="34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Picture 1027" descr="C:\Users\1\Desktop\Выпускная МаринаС\Компьютерные курсы  Уксусникова М.С\3 день ИКТ\POWER POINT\Гиперссылки СОШ\Урок\Вопросы\Вопрос4.emf"/>
          <p:cNvPicPr/>
          <p:nvPr/>
        </p:nvPicPr>
        <p:blipFill>
          <a:blip r:embed="rId1"/>
          <a:stretch/>
        </p:blipFill>
        <p:spPr>
          <a:xfrm>
            <a:off x="285840" y="5072040"/>
            <a:ext cx="4357440" cy="374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1\Desktop\Выпускная МаринаС\Компьютерные курсы  Уксусникова М.С\3 день ИКТ\POWER POINT\Гиперссылки СОШ\Урок\Картинки\Картинки к 4 вопросу\Правильный ответ.jpg"/>
          <p:cNvPicPr/>
          <p:nvPr/>
        </p:nvPicPr>
        <p:blipFill>
          <a:blip r:embed="rId2"/>
          <a:stretch/>
        </p:blipFill>
        <p:spPr>
          <a:xfrm>
            <a:off x="714240" y="2357280"/>
            <a:ext cx="1363680" cy="1665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Users\1\Desktop\Выпускная МаринаС\Компьютерные курсы  Уксусникова М.С\3 день ИКТ\POWER POINT\Гиперссылки СОШ\Урок\Картинки\Картинки к 4 вопросу\Рисунок1.jpg"/>
          <p:cNvPicPr/>
          <p:nvPr/>
        </p:nvPicPr>
        <p:blipFill>
          <a:blip r:embed="rId3"/>
          <a:stretch/>
        </p:blipFill>
        <p:spPr>
          <a:xfrm>
            <a:off x="3571920" y="192888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Users\1\Desktop\Выпускная МаринаС\Компьютерные курсы  Уксусникова М.С\3 день ИКТ\POWER POINT\Гиперссылки СОШ\Урок\Картинки\Картинки к 4 вопросу\Рисунок2.png"/>
          <p:cNvPicPr/>
          <p:nvPr/>
        </p:nvPicPr>
        <p:blipFill>
          <a:blip r:embed="rId4"/>
          <a:stretch/>
        </p:blipFill>
        <p:spPr>
          <a:xfrm>
            <a:off x="6858000" y="1928880"/>
            <a:ext cx="1811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54000" r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Животный мир тундры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1322280" y="1857240"/>
            <a:ext cx="87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1322280" y="1857240"/>
            <a:ext cx="94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7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4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39"/>
          <p:cNvSpPr/>
          <p:nvPr/>
        </p:nvSpPr>
        <p:spPr>
          <a:xfrm>
            <a:off x="1322280" y="1857240"/>
            <a:ext cx="87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44"/>
          <p:cNvSpPr/>
          <p:nvPr/>
        </p:nvSpPr>
        <p:spPr>
          <a:xfrm>
            <a:off x="1322280" y="1857240"/>
            <a:ext cx="94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55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72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92"/>
          <p:cNvSpPr/>
          <p:nvPr/>
        </p:nvSpPr>
        <p:spPr>
          <a:xfrm>
            <a:off x="5651640" y="234936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96"/>
          <p:cNvSpPr/>
          <p:nvPr/>
        </p:nvSpPr>
        <p:spPr>
          <a:xfrm>
            <a:off x="2533680" y="2085840"/>
            <a:ext cx="579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01"/>
          <p:cNvSpPr/>
          <p:nvPr/>
        </p:nvSpPr>
        <p:spPr>
          <a:xfrm>
            <a:off x="2533680" y="2085840"/>
            <a:ext cx="62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12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29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53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571920" y="3000240"/>
          <a:ext cx="3467160" cy="2500560"/>
        </p:xfrm>
        <a:graphic>
          <a:graphicData uri="http://schemas.openxmlformats.org/drawingml/2006/table">
            <a:tbl>
              <a:tblPr/>
              <a:tblGrid>
                <a:gridCol w="377640"/>
                <a:gridCol w="398520"/>
                <a:gridCol w="389160"/>
                <a:gridCol w="379440"/>
                <a:gridCol w="377640"/>
                <a:gridCol w="388800"/>
                <a:gridCol w="379440"/>
                <a:gridCol w="398520"/>
                <a:gridCol w="378000"/>
              </a:tblGrid>
              <a:tr h="34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99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38160">
                      <a:solidFill>
                        <a:srgbClr val="99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38160">
                      <a:solidFill>
                        <a:srgbClr val="99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2" descr="C:\Users\1\Desktop\Выпускная МаринаС\Компьютерные курсы  Уксусникова М.С\3 день ИКТ\POWER POINT\Гиперссылки СОШ\Урок\Вопросы\Молодец.emf"/>
          <p:cNvPicPr/>
          <p:nvPr/>
        </p:nvPicPr>
        <p:blipFill>
          <a:blip r:embed="rId1"/>
          <a:stretch/>
        </p:blipFill>
        <p:spPr>
          <a:xfrm>
            <a:off x="1643040" y="2643120"/>
            <a:ext cx="2389320" cy="590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Users\1\Desktop\Выпускная МаринаС\Компьютерные курсы  Уксусникова М.С\3 день ИКТ\POWER POINT\Гиперссылки СОШ\Урок\Картинки\Правильные ответы\Лемминг.jpg"/>
          <p:cNvPicPr/>
          <p:nvPr/>
        </p:nvPicPr>
        <p:blipFill>
          <a:blip r:embed="rId2"/>
          <a:stretch/>
        </p:blipFill>
        <p:spPr>
          <a:xfrm>
            <a:off x="3929040" y="1785960"/>
            <a:ext cx="1206360" cy="1504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C:\Users\1\Desktop\Выпускная МаринаС\Компьютерные курсы  Уксусникова М.С\3 день ИКТ\POWER POINT\Гиперссылки СОШ\Урок\Картинки\Правильные ответы\Олень.jpg"/>
          <p:cNvPicPr/>
          <p:nvPr/>
        </p:nvPicPr>
        <p:blipFill>
          <a:blip r:embed="rId3"/>
          <a:stretch/>
        </p:blipFill>
        <p:spPr>
          <a:xfrm>
            <a:off x="1428840" y="3500280"/>
            <a:ext cx="1363680" cy="1665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Users\1\Desktop\Выпускная МаринаС\Компьютерные курсы  Уксусникова М.С\3 день ИКТ\POWER POINT\Гиперссылки СОШ\Урок\Картинки\Правильные ответы\Песец.jpg"/>
          <p:cNvPicPr/>
          <p:nvPr/>
        </p:nvPicPr>
        <p:blipFill>
          <a:blip r:embed="rId4"/>
          <a:stretch/>
        </p:blipFill>
        <p:spPr>
          <a:xfrm>
            <a:off x="6643800" y="2214720"/>
            <a:ext cx="1603440" cy="1225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C:\Users\1\Desktop\Выпускная МаринаС\Компьютерные курсы  Уксусникова М.С\3 день ИКТ\POWER POINT\Гиперссылки СОШ\Урок\Картинки\Правильные ответы\Тундра.jpg"/>
          <p:cNvPicPr/>
          <p:nvPr/>
        </p:nvPicPr>
        <p:blipFill>
          <a:blip r:embed="rId5"/>
          <a:stretch/>
        </p:blipFill>
        <p:spPr>
          <a:xfrm>
            <a:off x="6929280" y="4929120"/>
            <a:ext cx="180504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6372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54000" r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Животный мир тундры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1322280" y="1857240"/>
            <a:ext cx="87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1322280" y="1857240"/>
            <a:ext cx="94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7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4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9"/>
          <p:cNvSpPr/>
          <p:nvPr/>
        </p:nvSpPr>
        <p:spPr>
          <a:xfrm>
            <a:off x="1322280" y="1857240"/>
            <a:ext cx="87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4"/>
          <p:cNvSpPr/>
          <p:nvPr/>
        </p:nvSpPr>
        <p:spPr>
          <a:xfrm>
            <a:off x="1322280" y="1857240"/>
            <a:ext cx="94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5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72"/>
          <p:cNvSpPr/>
          <p:nvPr/>
        </p:nvSpPr>
        <p:spPr>
          <a:xfrm>
            <a:off x="1322280" y="1857240"/>
            <a:ext cx="85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92"/>
          <p:cNvSpPr/>
          <p:nvPr/>
        </p:nvSpPr>
        <p:spPr>
          <a:xfrm>
            <a:off x="5651640" y="234936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96"/>
          <p:cNvSpPr/>
          <p:nvPr/>
        </p:nvSpPr>
        <p:spPr>
          <a:xfrm>
            <a:off x="2533680" y="2085840"/>
            <a:ext cx="579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01"/>
          <p:cNvSpPr/>
          <p:nvPr/>
        </p:nvSpPr>
        <p:spPr>
          <a:xfrm>
            <a:off x="2533680" y="2085840"/>
            <a:ext cx="62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12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29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53"/>
          <p:cNvSpPr/>
          <p:nvPr/>
        </p:nvSpPr>
        <p:spPr>
          <a:xfrm>
            <a:off x="2533680" y="2085840"/>
            <a:ext cx="5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Прямоугольник 17" descr=""/>
          <p:cNvPicPr/>
          <p:nvPr/>
        </p:nvPicPr>
        <p:blipFill>
          <a:blip r:embed="rId1"/>
          <a:stretch/>
        </p:blipFill>
        <p:spPr>
          <a:xfrm>
            <a:off x="1646280" y="2773440"/>
            <a:ext cx="3876480" cy="1566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1\Desktop\Выпускная МаринаС\Компьютерные курсы  Уксусникова М.С\3 день ИКТ\POWER POINT\Гиперссылки СОШ\Урок\Вопросы\Подумай еще.emf"/>
          <p:cNvPicPr/>
          <p:nvPr/>
        </p:nvPicPr>
        <p:blipFill>
          <a:blip r:embed="rId2"/>
          <a:stretch/>
        </p:blipFill>
        <p:spPr>
          <a:xfrm>
            <a:off x="1428840" y="4500720"/>
            <a:ext cx="41529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4:33:13Z</dcterms:created>
  <dc:creator>Ирина Валерьевна</dc:creator>
  <dc:description/>
  <dc:language>en-US</dc:language>
  <cp:lastModifiedBy>1</cp:lastModifiedBy>
  <dcterms:modified xsi:type="dcterms:W3CDTF">2016-10-31T23:45:37Z</dcterms:modified>
  <cp:revision>14</cp:revision>
  <dc:subject/>
  <dc:title>Животный мир тундры</dc:title>
</cp:coreProperties>
</file>