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B13-8270-4E4E-8995-E8502F05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8AD-A681-4A98-BF7F-0392F9B3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38C89-413D-49C5-B30E-3B50E90E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F9C5E-E9C7-4B6A-AE43-6DF69240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D7151-8CFC-4DBB-BD14-78F4AD16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EE461-D38E-4A8A-830E-5AFDA23C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F14D6-825C-4870-996F-4B5C4BCE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25E9B-2A17-4BF3-91C4-0CB87C3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6661B-3D29-46C8-B3D9-DD5A4405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BCE2A-7F45-4186-8C74-92B47263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201C1-0B7A-409B-BE14-7C50ADC1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001E8-3CBA-4519-9A59-EC18B913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8E7-113C-49DF-A414-90D9059D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CCCD9-3E35-4814-AF04-EEFB1F1F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AFF1F-D19B-4F94-AD0B-D0446897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5BCC8-9810-4605-AD45-25C1F14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758FC-7C3B-4988-950F-B90FADC4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DC74E-EEB4-45B2-B05E-5DB6B5D3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AB6CB-EC4E-4B92-A60D-D44F753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462FE-6C78-450F-A5DF-B1AD809F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D2297-60C3-4E87-B2A7-3D5DA39B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3B6B4-4FC8-4290-9279-8E0A441D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A1E3D-8613-4724-9E25-59624807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581-4F10-4513-9C1C-F6AE8EFE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15E28-0E3A-4DB4-8F76-642E46DD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F80EF-D6B4-49BA-9047-453702B6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22167-69FD-4FB3-92F1-BD3754F5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35AB5-1E7E-4E2B-AA1C-F78EE4E4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98CF2-5CA1-48C1-8B92-79AA193A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ECB53-3A35-4A41-B9A6-1B4B329B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0C0B7-EF26-491D-855F-B89E902A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ABF37-F991-485E-BB7F-06A4F08F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456DC-6BE4-413F-B218-F83BD03F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F2370-93BD-4CFF-A5BC-E6B0CDCF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6A57-E8EF-49E3-8E30-2CB49A3D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94944-055C-4BE8-ACF3-63D0A128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85752-2653-4A8D-BBD1-9D5016C7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CB6EB-0F74-4A30-B996-86F40242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AAA6D-8105-4180-83DE-DEA91BAF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49C52-26F3-4FA0-8971-17E577CA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E8840-5455-4CAB-A2E7-B5F3B28E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FA2BD-DF91-4611-9CFE-319FD4D2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59CD8-F511-459D-92C1-17CD6FD5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EB960-2CEC-49BB-BA31-FCE3AB93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FC330-174B-4CFB-AB1C-3F4D9C06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F9E6-5361-42A2-ABE3-60C0B077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0C419-E18E-45E3-8EA9-5AD267FA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64D91-EC32-4C20-B0BC-69A847FB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CD97D-E558-4AE7-8373-A327BF90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69BAF-4EFB-4FB0-865D-232ABCFF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586CF-D5E8-42E5-A12E-DF6ED3E3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A9C8-5BAC-4914-9080-156EEA8C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066B-D1A3-44E6-A02C-F146638F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69DE-FF4F-4DFD-A408-CD349ADD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8301-8063-434F-A668-6557F6B4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DCA-00DD-4FB5-A2AB-F4C28F68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82D-9412-49A2-B695-95EF6A15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A93B-D26A-410C-9C87-56AD6686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1AC2-158D-4CB7-A020-C5BC0E5B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8E03-9B08-46C7-A49A-4D6B138B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FEEE-A614-4499-8713-19904B33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5672-049F-4418-8FE9-99F7ECD1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8048-3270-452B-8804-A685F227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6A59-1B69-4B33-9770-2F92CB1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A8A0-4A1F-46CE-8874-3F7AAADB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C84D-DFA5-4C79-8F85-DBBEE7C3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9493-11EE-4518-8BA0-A6F84AB6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6CB-8323-4ABE-B275-6BD80720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DEFAC-6F73-4F3D-9A63-B6E600DD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FC2D-AD70-4742-B809-E6E56EC2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A0DB-2658-43E2-8087-27AA0A3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41D9-DF97-485A-AD5F-EE4BD5FA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2C8C1-C748-4D85-87DF-FFF51C22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AAF2-D108-4DAC-BD4B-8922E9E9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40B1-BCB9-4D32-8312-C3547CE0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38FA-C269-4239-94B2-CEC973A7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97F4-B8FA-4ECA-BE54-A50A6FF1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FC7B-9346-4DCB-87B9-25DE29C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4D3-2CBE-4201-A63A-68195E3F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52D8-95EB-4AF5-8F87-A59AE8F8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DB44-84F7-4E4E-B74D-15E0B39F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B40C-2C66-478F-8FE7-EB66A84C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C5A9-FF0E-4B3E-9E5D-9D819D2C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CED3-9C2E-4D8C-BBD8-6417F97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E6C3-F3B5-463B-B7CD-C5CF0B8A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70154-C09A-4885-A1EF-E769243A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E021-5369-4F69-A8C1-6FB2A101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9A7D8-B514-4FA7-BE58-8771FED6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00850-12FB-4247-8807-DB08D613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21D-FF1A-471A-8CCC-BD5FE4C7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84353-1259-43CF-8796-4C3FC581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398F-93D4-4E20-9AFF-0E20250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86247-5226-4AF7-8E60-C68CE814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B0B19-3C4A-43E0-877C-50C68075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2C004-D88C-49FB-8B26-85A3B0FA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CB5E4-F3D6-4AE6-88F5-9C3C7664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1096-FCF2-425F-8627-7E84B5C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77D0D-40DA-4424-B2D9-14BD2A91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DBC0-DAAB-4400-B31A-9B7C0619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9956-64D9-450D-A949-4F74CA0B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FCC-840E-4EB8-8ABD-785BA5CD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46B08-F687-45A8-A0FB-34C52B93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0624F-7E91-4493-9C2B-F72CD503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3730B-842F-4727-BAFB-E1E6C56C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EDCAA-0DD6-4D4C-B6E2-412792BB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F6458-BD6A-4342-9C49-8FEB610F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EB1B4-2AE9-49DD-916F-6C9623CD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45148-2981-41D6-9138-ADF810A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EAFCA-C316-4069-B3A9-AF13DF77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A3713-8108-46E4-BBF4-A2EDAD7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75A8B-97E2-4824-A441-8F1185B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429-301D-4E83-BE91-886D2BD7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37C23-65F1-4DC0-AD32-DD88CB15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E4883-58B1-41A5-8407-C5509465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0A99-2285-46AF-96C8-0060BFB4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6842-CF4C-44C0-9B8B-69C5DBB8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7BFCF-9524-490A-B12E-BBF5BFE4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1DE6F-D18C-4ADC-B349-621380E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2C87-5F43-4AF9-ADDC-5B6CEA19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1ADB0-81EF-429B-961F-861370CB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9E73A-2AD5-4BA6-88E0-5CFE9D57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44F62-9304-4A3A-94CA-4471D5BF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DB7-2F8B-4D02-8C17-E562D60F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5A70-2DE7-41F3-A12A-D19BF26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0EC8B-15A6-44C5-B7A1-3A288ED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731F-D4DD-404B-BB96-A6C4E86A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65A63-61ED-4FF7-AF94-E8179F39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2D504-07A5-4EA1-A222-4AA87061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8C198-6298-4674-8F0B-84DD46F0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E5564-654D-456A-BAA7-05C65A7B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4492D-4464-48B4-A3B5-83991C4E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ECF4E-9C38-44A0-B70F-401A79AC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EBCA9-5F6E-4A37-8315-C5DDFCFD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CD5-2515-409A-9E2C-DD7417D7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3FC55-2FBE-4468-8649-11EC82A8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989CD-D156-4255-8C8F-3A452F08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D5BFC-42B5-4795-A0F2-57930D20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B6BCB-33AC-431B-93D6-F50E25F8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F7FF0-3C2A-4E6C-90FF-591AF06A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12A90-BBF5-42C4-AAAC-A4EBDA50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09BF-371F-4A23-8C15-5C3A6999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CBE7B-B50F-4246-A2EE-269D27A7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0C6C6-2077-43F5-88F8-322D2952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A0938-C1B0-46B4-96F8-7D56420C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18C0-99C8-4F14-809E-5F60223EFF9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"/>
          <p:cNvSpPr/>
          <p:nvPr/>
        </p:nvSpPr>
        <p:spPr>
          <a:xfrm>
            <a:off x="0" y="5048280"/>
            <a:ext cx="3571920" cy="180972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392B-158D-4AC3-A757-E2020CE199C0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486D-CDA0-40E6-9A22-4ECD5D6AA2D1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1140-A1EF-4BCA-A40C-1C2E83F3E746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14C6-AF83-4EDB-90E7-DDAD9127BE2E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849C-8AD9-4CC4-987F-E974D78302A1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6CC9-18B3-4F89-96A2-E2F77B41755B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07CA-25D5-487D-BEF8-87901BA74A3D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DCAA-0499-4831-8675-3733569097EB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B306-7333-417B-9CC7-0C36E322E6F0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4DBF-53EA-4560-8EA0-77D0AA0882EC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474D-E226-4480-BE37-FF74CCC8211E}" type="slidenum">
              <a:rPr b="0" lang="ru-RU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ru/search?newwindow=1&amp;safe=active&amp;q=&#1072;&#1075;&#1085;&#1080;&#1103;+&#1073;&#1072;&#1088;&#1090;&#1086;+&#1088;&#1086;&#1076;&#1080;&#1083;&#1072;&#1089;&#1100;&amp;stick=H4sIAAAAAAAAAOPgE-LUz9U3sKiwKDHXEstOttIvSM0vyEkFUkXF-XlWSflFeQBf-iJRJQAAAA&amp;sa=X&amp;ved=0ahUKEwi71KyDqITQAhVJuBoKHZ_HA_4Q6BMInwEoADAW" TargetMode="External"/><Relationship Id="rId3" Type="http://schemas.openxmlformats.org/officeDocument/2006/relationships/hyperlink" Target="http://www.google.ru/search?newwindow=1&amp;safe=active&amp;q=&#1052;&#1086;&#1089;&#1082;&#1074;&#1072;&amp;stick=H4sIAAAAAAAAAOPgE-LUz9U3sKiwKDFX4gAxTYrLU7TEspOt9AtS8wtyUoFUUXF-nlVSflEeABBlL3MvAAAA&amp;sa=X&amp;ved=0ahUKEwi71KyDqITQAhVJuBoKHZ_HA_4QmxMIoAEoATAW" TargetMode="External"/><Relationship Id="rId4" Type="http://schemas.openxmlformats.org/officeDocument/2006/relationships/hyperlink" Target="http://www.google.ru/search?newwindow=1&amp;safe=active&amp;q=&#1072;&#1075;&#1085;&#1080;&#1103;+&#1073;&#1072;&#1088;&#1090;&#1086;+&#1091;&#1084;&#1077;&#1088;&#1083;&#1072;&amp;stick=H4sIAAAAAAAAAOPgE-LUz9U3sKiwKDHXks9OttIvSM0vyEnVT0lNTk0sTk2JL0gtKs7Ps0rJTE0BAHc-9XMuAAAA&amp;sa=X&amp;ved=0ahUKEwi71KyDqITQAhVJuBoKHZ_HA_4Q6BMIowEoADAX" TargetMode="External"/><Relationship Id="rId5" Type="http://schemas.openxmlformats.org/officeDocument/2006/relationships/hyperlink" Target="http://www.google.ru/search?newwindow=1&amp;safe=active&amp;q=&#1052;&#1086;&#1089;&#1082;&#1074;&#1072;&amp;stick=H4sIAAAAAAAAAOPgE-LUz9U3sKiwKDFX4gAxTYrLU7Tks5Ot9AtS8wtyUvVTUpNTE4tTU-ILUouK8_OsUjJTUwABkc2vOAAAAA&amp;sa=X&amp;ved=0ahUKEwi71KyDqITQAhVJuBoKHZ_HA_4QmxMIpAEoATAX" TargetMode="External"/><Relationship Id="rId6" Type="http://schemas.openxmlformats.org/officeDocument/2006/relationships/hyperlink" Target="http://www.google.ru/search?newwindow=1&amp;safe=active&amp;q=&#1072;&#1075;&#1085;&#1080;&#1103;+&#1073;&#1072;&#1088;&#1090;&#1086;+&#1092;&#1080;&#1083;&#1100;&#1084;&#1099;&amp;stick=H4sIAAAAAAAAAOPgE-LUz9U3sKiwKDHXkshOttIvSM0vyEkFUkXF-XlWufllmanFADZqv8wnAAAA&amp;sa=X&amp;ved=0ahUKEwi71KyDqITQAhVJuBoKHZ_HA_4Q6BMIpwEoADAY" TargetMode="External"/><Relationship Id="rId7" Type="http://schemas.openxmlformats.org/officeDocument/2006/relationships/hyperlink" Target="http://www.google.ru/search?newwindow=1&amp;safe=active&amp;q=&#1055;&#1086;&#1076;&#1082;&#1080;&#1076;&#1099;&#1096;+(&#1092;&#1080;&#1083;&#1100;&#1084;)&amp;stick=H4sIAAAAAAAAAOPgE-LUz9U3sKiwKDFX4gIxK7PMiuLLtCSyk630C1LzC3JSgVRRcX6eVW5-WWZqMQADBDdvMwAAAA&amp;sa=X&amp;ved=0ahUKEwi71KyDqITQAhVJuBoKHZ_HA_4QmxMIqAEoATAY" TargetMode="External"/><Relationship Id="rId8" Type="http://schemas.openxmlformats.org/officeDocument/2006/relationships/hyperlink" Target="http://www.google.ru/search?newwindow=1&amp;safe=active&amp;q=&#1048;&#1097;&#1091;+&#1095;&#1077;&#1083;&#1086;&#1074;&#1077;&#1082;&#1072;+(&#1092;&#1080;&#1083;&#1100;&#1084;)&amp;stick=H4sIAAAAAAAAAOPgE-LUz9U3sKiwKDFX4gIxK7PMyrOytSSyk630C1LzC3JSgVRRcX6eVW5-WWZqMQA0yefiMwAAAA&amp;sa=X&amp;ved=0ahUKEwi71KyDqITQAhVJuBoKHZ_HA_4QmxMIqQEoAjAY" TargetMode="External"/><Relationship Id="rId9" Type="http://schemas.openxmlformats.org/officeDocument/2006/relationships/hyperlink" Target="http://www.google.ru/search?newwindow=1&amp;safe=active&amp;q=&#1057;&#1085;&#1077;&#1075;&#1080;&#1088;&#1100;+(&#1084;&#1091;&#1083;&#1100;&#1090;&#1092;&#1080;&#1083;&#1100;&#1084;)&amp;stick=H4sIAAAAAAAAAOPgE-LUz9U3sKiwKDFX4tVP1zc0TCpPs8hLMs3WkshOttIvSM0vyEkFUkXF-XlWufllmanFAPdT1ds2AAAA&amp;sa=X&amp;ved=0ahUKEwi71KyDqITQAhVJuBoKHZ_HA_4QmxMIqgEoAzAY" TargetMode="External"/><Relationship Id="rId10" Type="http://schemas.openxmlformats.org/officeDocument/2006/relationships/hyperlink" Target="http://www.google.ru/search?newwindow=1&amp;safe=active&amp;q=&#1040;&#1083;&#1105;&#1096;&#1072;+&#1055;&#1090;&#1080;&#1094;&#1099;&#1085;+&#1074;&#1099;&#1088;&#1072;&#1073;&#1072;&#1090;&#1099;&#1074;&#1072;&#1077;&#1090;+&#1093;&#1072;&#1088;&#1072;&#1082;&#1090;&#1077;&#1088;&amp;stick=H4sIAAAAAAAAAOPgE-LUz9U3sKiwKDFX4gIxK7PMSgqKtCSyk630C1LzC3JSgVRRcX6eVW5-WWZqMQDEBw6gMwAAAA&amp;sa=X&amp;ved=0ahUKEwi71KyDqITQAhVJuBoKHZ_HA_4QmxMIqwEoBDAY" TargetMode="External"/><Relationship Id="rId11" Type="http://schemas.openxmlformats.org/officeDocument/2006/relationships/hyperlink" Target="http://www.google.ru/search?newwindow=1&amp;safe=active&amp;q=&#1057;&#1083;&#1086;&#1085;+&#1080;+&#1074;&#1077;&#1088;&#1105;&#1074;&#1086;&#1095;&#1082;&#1072;&amp;stick=H4sIAAAAAAAAAOPgE-LUz9U3sKiwKDFX4gIxK7PMiuPTtCSyk630C1LzC3JSgVRRcX6eVW5-WWZqMQBydkRSMwAAAA&amp;sa=X&amp;ved=0ahUKEwi71KyDqITQAhVJuBoKHZ_HA_4QmxMIrAEoBTAY" TargetMode="External"/><Relationship Id="rId12" Type="http://schemas.openxmlformats.org/officeDocument/2006/relationships/hyperlink" Target="http://www.google.ru/search?newwindow=1&amp;safe=active&amp;q=10000+&#1084;&#1072;&#1083;&#1100;&#1095;&#1080;&#1082;&#1086;&#1074;&amp;stick=H4sIAAAAAAAAAOPgE-LUz9U3sKiwKDFX4gIxK7PMytLTtSSyk630C1LzC3JSgVRRcX6eVW5-WWZqMQBeTO4oMwAAAA&amp;sa=X&amp;ved=0ahUKEwi71KyDqITQAhVJuBoKHZ_HA_4QmxMIrQEoBjAY" TargetMode="External"/><Relationship Id="rId13" Type="http://schemas.openxmlformats.org/officeDocument/2006/relationships/hyperlink" Target="http://www.google.ru/search?newwindow=1&amp;safe=active&amp;q=&#1072;&#1075;&#1085;&#1080;&#1103;+&#1073;&#1072;&#1088;&#1090;&#1086;+&#1088;&#1086;&#1076;&#1080;&#1090;&#1077;&#1083;&#1080;&amp;stick=H4sIAAAAAAAAAOPgE-LUz9U3sKiwKDHXksxOttIvSM0vyEkFUkXF-XlWBYlFqXklxQBPvyTzKAAAAA&amp;sa=X&amp;ved=0ahUKEwi71KyDqITQAhVJuBoKHZ_HA_4Q6BMIsAEoADAZ" TargetMode="External"/><Relationship Id="rId14" Type="http://schemas.openxmlformats.org/officeDocument/2006/relationships/hyperlink" Target="http://www.google.ru/search?newwindow=1&amp;safe=active&amp;q=&#1051;&#1077;&#1074;+&#1053;&#1080;&#1082;&#1086;&#1083;&#1072;&#1077;&#1074;&#1080;&#1095;+&#1042;&#1086;&#1083;&#1086;&#1074;&amp;stick=H4sIAAAAAAAAAOPgE-LUz9U3sKiwKDFX4gIxyysrcwoMtSSzk630C1LzC3JSgVRRcX6eVUFiUWpeSTEArp7c2TQAAAA&amp;sa=X&amp;ved=0ahUKEwi71KyDqITQAhVJuBoKHZ_HA_4QmxMIsQEoATAZ" TargetMode="External"/><Relationship Id="rId15" Type="http://schemas.openxmlformats.org/officeDocument/2006/relationships/hyperlink" Target="http://www.google.ru/search?newwindow=1&amp;safe=active&amp;q=&#1052;&#1072;&#1088;&#1080;&#1103;+&#1048;&#1083;&#1100;&#1080;&#1085;&#1080;&#1095;&#1085;&#1072;+&#1042;&#1086;&#1083;&#1086;&#1074;&#1072;&amp;stick=H4sIAAAAAAAAAOPgE-LUz9U3sKiwKDFX4gIxyysrc5PStCSzk630C1LzC3JSgVRRcX6eVUFiUWpeSTEAKCdS1zQAAAA&amp;sa=X&amp;ved=0ahUKEwi71KyDqITQAhVJuBoKHZ_HA_4QmxMIsgEoAjAZ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ЖИЗНЬ И ТВОРЧЕСТВО А.Л.БАРТО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17" name="Рисунок 2" descr="Похожее изображение"/>
          <p:cNvPicPr/>
          <p:nvPr/>
        </p:nvPicPr>
        <p:blipFill>
          <a:blip r:embed="rId1"/>
          <a:stretch/>
        </p:blipFill>
        <p:spPr>
          <a:xfrm>
            <a:off x="639720" y="3346560"/>
            <a:ext cx="2676600" cy="309708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3"/>
          <p:cNvSpPr/>
          <p:nvPr/>
        </p:nvSpPr>
        <p:spPr>
          <a:xfrm>
            <a:off x="3276720" y="1790640"/>
            <a:ext cx="489564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2"/>
              </a:rPr>
              <a:t>Родилась</a:t>
            </a:r>
            <a:r>
              <a:rPr b="1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4 февраля 1906 г., 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3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4"/>
              </a:rPr>
              <a:t>Умерла</a:t>
            </a:r>
            <a:r>
              <a:rPr b="1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1 апреля 1981 г., 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5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6"/>
              </a:rPr>
              <a:t>Фильмы</a:t>
            </a:r>
            <a:r>
              <a:rPr b="1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: </a:t>
            </a:r>
            <a:r>
              <a:rPr b="1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7"/>
              </a:rPr>
              <a:t>Подкидыш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, 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8"/>
              </a:rPr>
              <a:t>Ищу человека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,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9"/>
              </a:rPr>
              <a:t>Снегирь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, 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10"/>
              </a:rPr>
              <a:t>Алёша Птицын вырабатывает характер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, 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11"/>
              </a:rPr>
              <a:t>Слон и верёвочка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, 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12"/>
              </a:rPr>
              <a:t>10000 мальч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13"/>
              </a:rPr>
              <a:t>Родители</a:t>
            </a:r>
            <a:r>
              <a:rPr b="1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: </a:t>
            </a:r>
            <a:r>
              <a:rPr b="1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14"/>
              </a:rPr>
              <a:t>Лев Николаевич Волов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,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  <a:hlinkClick r:id="rId15"/>
              </a:rPr>
              <a:t>Мария Ильинична В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0dab"/>
                </a:solidFill>
                <a:latin typeface="Arial"/>
                <a:ea typeface="Times New Roman"/>
              </a:rPr>
              <a:t>Дети</a:t>
            </a:r>
            <a:r>
              <a:rPr b="1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1a0dab"/>
                </a:solidFill>
                <a:latin typeface="Arial"/>
                <a:ea typeface="Times New Roman"/>
              </a:rPr>
              <a:t>Татьяна Андреевна Щегляева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1a0dab"/>
                </a:solidFill>
                <a:latin typeface="Arial"/>
                <a:ea typeface="Times New Roman"/>
              </a:rPr>
              <a:t>Эдгар Бар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4" descr="Похожее изображение"/>
          <p:cNvPicPr/>
          <p:nvPr/>
        </p:nvPicPr>
        <p:blipFill>
          <a:blip r:embed="rId16"/>
          <a:stretch/>
        </p:blipFill>
        <p:spPr>
          <a:xfrm>
            <a:off x="585720" y="1163520"/>
            <a:ext cx="2176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ЧИТАТЬ КНИЖКИ А.БАРТО!!!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ГНИЯ ЛЬВОВНА БАРТО ВОСПИТЫВАЛАСЬ В СЕМЬЕ ВЕТЕРИНАРНОГО ВРАЧА ЛЬВА НИКОЛАЕВИЧА ВОЛОВА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21" name="Содержимое 3" descr="барто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4560" cy="3579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C:\Users\1\Desktop\Картинки\Анимации\Рисунок5.gif"/>
          <p:cNvPicPr/>
          <p:nvPr/>
        </p:nvPicPr>
        <p:blipFill>
          <a:blip r:embed="rId2"/>
          <a:stretch/>
        </p:blipFill>
        <p:spPr>
          <a:xfrm>
            <a:off x="4876920" y="2438280"/>
            <a:ext cx="3197160" cy="23716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C:\Users\1\Desktop\Картинки\РАМКИ\0_4b361_6ff59ad5_XL.jpg"/>
          <p:cNvPicPr/>
          <p:nvPr/>
        </p:nvPicPr>
        <p:blipFill>
          <a:blip r:embed="rId3"/>
          <a:stretch/>
        </p:blipFill>
        <p:spPr>
          <a:xfrm>
            <a:off x="-457200" y="1523880"/>
            <a:ext cx="4567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316240"/>
          </a:xfrm>
          <a:prstGeom prst="rect">
            <a:avLst/>
          </a:prstGeom>
          <a:noFill/>
          <a:ln w="9360">
            <a:solidFill>
              <a:srgbClr val="797b7e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ПОМИНАТЬ СВОЕ ДЕТСТВО АГНИЯ БАРТО НЕ ЛЮБИЛА. СЕМЬЯ ВЕЛА ТИПИЧНУЮ ПО ТЕМ ВРЕМЕНАМ ИНТЕЛЛИГЕНТНУЮ ЖИЗНЬ: ДОМАШНЕЕ НАЧАЛЬНОЕ ОБРАЗОВАНИЕ, ФРАНЦУЗСКИЙ ЯЗЫК, ПАРАДНЫЕ ОБЕДЫ С АНАНАСОМ НА ДЕСЕРТ.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25" name="Содержимое 3" descr="барто бал.jpg"/>
          <p:cNvPicPr/>
          <p:nvPr/>
        </p:nvPicPr>
        <p:blipFill>
          <a:blip r:embed="rId1"/>
          <a:stretch/>
        </p:blipFill>
        <p:spPr>
          <a:xfrm>
            <a:off x="914400" y="3178080"/>
            <a:ext cx="33526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НИКОЛАЕВИЧ, ПОКЛОННИК ИСКУССТВА, ВИДЕЛ БУДУЩЕЕ ДОЧЕРИ В БАЛЕТЕ. АГНИЯ ПРИЛЕЖНО ЗАНИМАЛАСЬ ТАНЦАМИ, НО БОЛЬШОГО ТАЛАНТА В ЭТОМ ЗАНЯТИИ НЕ ОБНАРУЖИВАЛА. РАНО ПРОЯВИВШУЮСЯ ТВОРЧЕСКУЮ ЭНЕРГИЮ НАПРАВЛЯЛА В ДРУГОЕ РУСЛО — СТИХОТВОРНОЕ. СТИХАМИ ОНА УВЛЕКЛАСЬ ВСЛЕД ЗА ГИМНАЗИЧЕСКИМИ ПОДРУГАМИ.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тихотворное начало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БОЛЬШОГО ПУ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1925 году девятнадцатилетняя Агния Барто выпустила свою первую книжку — "Китайчонок Ван Ли"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0" name="Содержимое 4" descr="барто молод.jpg"/>
          <p:cNvPicPr/>
          <p:nvPr/>
        </p:nvPicPr>
        <p:blipFill>
          <a:blip r:embed="rId1"/>
          <a:stretch/>
        </p:blipFill>
        <p:spPr>
          <a:xfrm>
            <a:off x="4952880" y="1600200"/>
            <a:ext cx="2133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ЕЛИКОЙ ОТЕЧЕСТВЕННОЙ ВОЙНЫ СЕМЬЯ АГНИИ ЛЬВОВНЫ ОБОСНОВАЛАСЬ В СВЕРДЛОВСК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32" name="Содержимое 5" descr="барто война.jpg"/>
          <p:cNvPicPr/>
          <p:nvPr/>
        </p:nvPicPr>
        <p:blipFill>
          <a:blip r:embed="rId1"/>
          <a:stretch/>
        </p:blipFill>
        <p:spPr>
          <a:xfrm>
            <a:off x="776160" y="2133720"/>
            <a:ext cx="3481560" cy="41907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аботала токарем на заводе. В 1942 году  ушла на фронт фронтовым корреспондент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лицу Барто вернулась в 1944-м году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Ы ЗНАЕМ ЭТИ КНИЖКИ С ДЕТСТВА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стихи Агния Львовна посвятила дочери   Татьяне. А с появлением внука Володи написала ряд стихотворений: "Вовка — добрая душа"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7" name="Содержимое 5" descr="барто кн таня.jpg"/>
          <p:cNvPicPr/>
          <p:nvPr/>
        </p:nvPicPr>
        <p:blipFill>
          <a:blip r:embed="rId1"/>
          <a:stretch/>
        </p:blipFill>
        <p:spPr>
          <a:xfrm>
            <a:off x="5486400" y="838080"/>
            <a:ext cx="1920960" cy="2819520"/>
          </a:xfrm>
          <a:prstGeom prst="rect">
            <a:avLst/>
          </a:prstGeom>
          <a:ln w="0">
            <a:noFill/>
          </a:ln>
        </p:spPr>
      </p:pic>
      <p:pic>
        <p:nvPicPr>
          <p:cNvPr id="538" name="Содержимое 6" descr="барто вовка.jpg"/>
          <p:cNvPicPr/>
          <p:nvPr/>
        </p:nvPicPr>
        <p:blipFill>
          <a:blip r:embed="rId2"/>
          <a:stretch/>
        </p:blipFill>
        <p:spPr>
          <a:xfrm>
            <a:off x="5410080" y="3809880"/>
            <a:ext cx="2075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ВСЕГДА  РЯДОМ С ЧИТАТЕЛЕМ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Барто часто можно было увидеть среди ребят. Она посещала школы, присутствовала на уроках, встречалась со своими читателями в детских библиотеках. Часто приезжая на выступления Агния Барто предлагала: "Уважаемые дети, - я прочту лишь первую строчку, а вы сами продолжайте остальное". Не было случая, чтобы ребята не вспомнили стихотворени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1" name="Содержимое 4" descr="барто читает.jpg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ЖИЗНЬ ПОСВЯТИЛА А. БАРТО ДЕТСКОЙ ПОЭЗИИ И ОСТАВИЛА НАМ МНОГО ЗАМЕЧАТЕЛЬНЫХ СТИХОТВОРЕНИЙ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43" name="Содержимое 6" descr="барто кн1.jpg"/>
          <p:cNvPicPr/>
          <p:nvPr/>
        </p:nvPicPr>
        <p:blipFill>
          <a:blip r:embed="rId1"/>
          <a:stretch/>
        </p:blipFill>
        <p:spPr>
          <a:xfrm>
            <a:off x="1295280" y="1600200"/>
            <a:ext cx="1887480" cy="2185920"/>
          </a:xfrm>
          <a:prstGeom prst="rect">
            <a:avLst/>
          </a:prstGeom>
          <a:ln w="0">
            <a:noFill/>
          </a:ln>
        </p:spPr>
      </p:pic>
      <p:pic>
        <p:nvPicPr>
          <p:cNvPr id="544" name="Содержимое 8" descr="барто кн3.jpg"/>
          <p:cNvPicPr/>
          <p:nvPr/>
        </p:nvPicPr>
        <p:blipFill>
          <a:blip r:embed="rId2"/>
          <a:stretch/>
        </p:blipFill>
        <p:spPr>
          <a:xfrm>
            <a:off x="5257800" y="1752480"/>
            <a:ext cx="1962000" cy="2133720"/>
          </a:xfrm>
          <a:prstGeom prst="rect">
            <a:avLst/>
          </a:prstGeom>
          <a:ln w="0">
            <a:noFill/>
          </a:ln>
        </p:spPr>
      </p:pic>
      <p:pic>
        <p:nvPicPr>
          <p:cNvPr id="545" name="Содержимое 7" descr="барто кн2.jpg"/>
          <p:cNvPicPr/>
          <p:nvPr/>
        </p:nvPicPr>
        <p:blipFill>
          <a:blip r:embed="rId3"/>
          <a:stretch/>
        </p:blipFill>
        <p:spPr>
          <a:xfrm>
            <a:off x="1371600" y="3962520"/>
            <a:ext cx="1752480" cy="2361960"/>
          </a:xfrm>
          <a:prstGeom prst="rect">
            <a:avLst/>
          </a:prstGeom>
          <a:ln w="0">
            <a:noFill/>
          </a:ln>
        </p:spPr>
      </p:pic>
      <p:pic>
        <p:nvPicPr>
          <p:cNvPr id="546" name="Содержимое 9" descr="барто кн4.jpg"/>
          <p:cNvPicPr/>
          <p:nvPr/>
        </p:nvPicPr>
        <p:blipFill>
          <a:blip r:embed="rId4"/>
          <a:stretch/>
        </p:blipFill>
        <p:spPr>
          <a:xfrm>
            <a:off x="53341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09-29T01:37:1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